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85800" y="4063680"/>
            <a:ext cx="7772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636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68480" y="40636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313800" y="18442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18442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685800" y="40636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313800" y="40636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5941440" y="40636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8975B-0802-45E8-8C3E-16725EEF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AF38A-92CB-45FC-A41C-002DEBE8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ECB35-3488-4E90-97A8-8FC59630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0741C-0446-4D01-8845-9FB80B81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9CC73-9A86-4658-84E2-1AA14A7D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475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CE014-9374-492C-A7CF-D5EB9F66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0636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2E787-576F-4D7F-B1F5-1B9759B08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0636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44F59-9E42-42BB-8F9E-B5C37363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063680"/>
            <a:ext cx="7772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75929-6C97-4E4C-B9EB-2CA5C77F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063680"/>
            <a:ext cx="7772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7F326-9AC6-4B13-B97A-9C66E144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0636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0636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5E59A-C54F-4475-94AB-A4DABA1F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8442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8442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0636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0636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063680"/>
            <a:ext cx="25023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BB48A-3199-4E59-B9F8-78AEED97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685800" y="475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0636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68480" y="40636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44280"/>
            <a:ext cx="37926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063680"/>
            <a:ext cx="7772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7993080" y="6389640"/>
            <a:ext cx="1159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E021-A093-410C-9E23-44CC2BDE480E}" type="slidenum">
              <a:rPr b="0" lang="en-US" sz="1200" spc="-1" strike="noStrike">
                <a:solidFill>
                  <a:srgbClr val="545472"/>
                </a:solidFill>
                <a:latin typeface="Tahoma"/>
              </a:rPr>
              <a:t>&lt;number&gt;</a:t>
            </a:fld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/23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8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1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2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3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4F35-5C08-4640-ACD3-0A9A27C5EB4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612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icking and Snapping for 3D Input Devic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7280" y="3573000"/>
            <a:ext cx="6624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Wu, Shin-Ting, Marcel Abrantes, Daniel Tost and Harlen Batagelo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Department of Industrial Automation and Computer Engineering (DCA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chool of Electrical and Computer Engineering (FEEC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tate University of Campinas (Unicamp)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Picking Algorithm – Concav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nable a user-defined clipping plane parallel to the projection plane and containing the 3d curs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4073040" y="3405240"/>
            <a:ext cx="2087640" cy="1128600"/>
          </a:xfrm>
          <a:prstGeom prst="parallelogram">
            <a:avLst>
              <a:gd name="adj" fmla="val 76739"/>
            </a:avLst>
          </a:prstGeom>
          <a:solidFill>
            <a:srgbClr val="ffffff"/>
          </a:solidFill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5075280" y="3827520"/>
            <a:ext cx="576360" cy="13968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676240" y="3657600"/>
            <a:ext cx="790560" cy="1655640"/>
            <a:chOff x="2676240" y="3657600"/>
            <a:chExt cx="790560" cy="1655640"/>
          </a:xfrm>
        </p:grpSpPr>
        <p:sp>
          <p:nvSpPr>
            <p:cNvPr id="269" name=""/>
            <p:cNvSpPr/>
            <p:nvPr/>
          </p:nvSpPr>
          <p:spPr>
            <a:xfrm rot="5400000">
              <a:off x="2243880" y="4091040"/>
              <a:ext cx="1655640" cy="788400"/>
            </a:xfrm>
            <a:prstGeom prst="parallelogram">
              <a:avLst>
                <a:gd name="adj" fmla="val 87121"/>
              </a:avLst>
            </a:prstGeom>
            <a:solidFill>
              <a:srgbClr val="ffffff"/>
            </a:solidFill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74600" y="3835800"/>
              <a:ext cx="0" cy="96012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72240" y="4013280"/>
              <a:ext cx="0" cy="96012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69160" y="4178520"/>
              <a:ext cx="0" cy="9558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75600" y="3751200"/>
              <a:ext cx="0" cy="961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73240" y="3917880"/>
              <a:ext cx="0" cy="96768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170160" y="4091040"/>
              <a:ext cx="0" cy="96804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68160" y="4264560"/>
              <a:ext cx="0" cy="96768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676240" y="4448160"/>
              <a:ext cx="789480" cy="682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2677680" y="4267080"/>
              <a:ext cx="789120" cy="682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2677680" y="4085640"/>
              <a:ext cx="789120" cy="6822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2677680" y="3878640"/>
              <a:ext cx="789120" cy="682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2098800" y="4483080"/>
            <a:ext cx="917280" cy="22536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684760" y="3684600"/>
            <a:ext cx="542880" cy="133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67040" y="3398760"/>
            <a:ext cx="15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3d cursor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50800" y="4017960"/>
            <a:ext cx="100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Picking ray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38440" y="488160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Projection plan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971880" y="4797000"/>
            <a:ext cx="2879640" cy="7081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46920" y="4948200"/>
            <a:ext cx="69840" cy="69840"/>
          </a:xfrm>
          <a:prstGeom prst="ellipse">
            <a:avLst/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84880" y="5113440"/>
            <a:ext cx="69840" cy="69840"/>
          </a:xfrm>
          <a:prstGeom prst="ellipse">
            <a:avLst/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54680" y="4994280"/>
            <a:ext cx="69840" cy="69840"/>
          </a:xfrm>
          <a:prstGeom prst="ellipse">
            <a:avLst/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584680" y="5062680"/>
            <a:ext cx="69840" cy="69840"/>
          </a:xfrm>
          <a:prstGeom prst="ellipse">
            <a:avLst/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8240" y="5029200"/>
            <a:ext cx="69840" cy="69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33920" y="5224320"/>
            <a:ext cx="43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1" lang="en-US" sz="1600" spc="-1" strike="noStrike" baseline="-25000">
                <a:solidFill>
                  <a:srgbClr val="545472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88120" y="5192640"/>
            <a:ext cx="43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1" lang="en-US" sz="1600" spc="-1" strike="noStrike" baseline="-25000">
                <a:solidFill>
                  <a:srgbClr val="545472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46600" y="512604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1" lang="en-US" sz="1600" spc="-1" strike="noStrike" baseline="-25000">
                <a:solidFill>
                  <a:srgbClr val="545472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97520" y="506736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1" lang="en-US" sz="1600" spc="-1" strike="noStrike" baseline="-25000">
                <a:solidFill>
                  <a:srgbClr val="545472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09320" y="3778200"/>
            <a:ext cx="360720" cy="3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78205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782052"/>
              </a:path>
            </a:pathLst>
          </a:custGeom>
          <a:noFill/>
          <a:ln w="1908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82160" y="3540240"/>
            <a:ext cx="840240" cy="83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56450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564504"/>
              </a:path>
            </a:pathLst>
          </a:custGeom>
          <a:noFill/>
          <a:ln w="1908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908600" y="3971520"/>
            <a:ext cx="142920" cy="3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03640" y="287028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Clipping plan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64000" y="4365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Front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06920" y="386244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Back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938480" y="3782880"/>
            <a:ext cx="288720" cy="322200"/>
            <a:chOff x="4938480" y="3782880"/>
            <a:chExt cx="288720" cy="322200"/>
          </a:xfrm>
        </p:grpSpPr>
        <p:sp>
          <p:nvSpPr>
            <p:cNvPr id="303" name=""/>
            <p:cNvSpPr/>
            <p:nvPr/>
          </p:nvSpPr>
          <p:spPr>
            <a:xfrm flipH="1">
              <a:off x="4938480" y="3960720"/>
              <a:ext cx="144360" cy="144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083200" y="3960720"/>
              <a:ext cx="144000" cy="144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083200" y="3782880"/>
              <a:ext cx="0" cy="177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49720" y="3932280"/>
              <a:ext cx="69480" cy="6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651200" y="3543480"/>
            <a:ext cx="536760" cy="838080"/>
          </a:xfrm>
          <a:custGeom>
            <a:avLst/>
            <a:gdLst/>
            <a:ahLst/>
            <a:rect l="l" t="t" r="r" b="b"/>
            <a:pathLst>
              <a:path w="338" h="528">
                <a:moveTo>
                  <a:pt x="284" y="528"/>
                </a:moveTo>
                <a:lnTo>
                  <a:pt x="218" y="521"/>
                </a:lnTo>
                <a:lnTo>
                  <a:pt x="144" y="497"/>
                </a:lnTo>
                <a:lnTo>
                  <a:pt x="78" y="453"/>
                </a:lnTo>
                <a:lnTo>
                  <a:pt x="21" y="375"/>
                </a:lnTo>
                <a:lnTo>
                  <a:pt x="0" y="288"/>
                </a:lnTo>
                <a:lnTo>
                  <a:pt x="2" y="213"/>
                </a:lnTo>
                <a:lnTo>
                  <a:pt x="32" y="134"/>
                </a:lnTo>
                <a:lnTo>
                  <a:pt x="87" y="69"/>
                </a:lnTo>
                <a:lnTo>
                  <a:pt x="153" y="27"/>
                </a:lnTo>
                <a:lnTo>
                  <a:pt x="227" y="5"/>
                </a:lnTo>
                <a:lnTo>
                  <a:pt x="264" y="0"/>
                </a:lnTo>
                <a:lnTo>
                  <a:pt x="294" y="15"/>
                </a:lnTo>
                <a:lnTo>
                  <a:pt x="317" y="41"/>
                </a:lnTo>
                <a:lnTo>
                  <a:pt x="327" y="74"/>
                </a:lnTo>
                <a:lnTo>
                  <a:pt x="323" y="111"/>
                </a:lnTo>
                <a:lnTo>
                  <a:pt x="303" y="141"/>
                </a:lnTo>
                <a:lnTo>
                  <a:pt x="293" y="149"/>
                </a:lnTo>
                <a:lnTo>
                  <a:pt x="254" y="147"/>
                </a:lnTo>
                <a:lnTo>
                  <a:pt x="221" y="156"/>
                </a:lnTo>
                <a:lnTo>
                  <a:pt x="188" y="179"/>
                </a:lnTo>
                <a:lnTo>
                  <a:pt x="162" y="215"/>
                </a:lnTo>
                <a:lnTo>
                  <a:pt x="152" y="266"/>
                </a:lnTo>
                <a:lnTo>
                  <a:pt x="161" y="308"/>
                </a:lnTo>
                <a:lnTo>
                  <a:pt x="179" y="335"/>
                </a:lnTo>
                <a:lnTo>
                  <a:pt x="210" y="360"/>
                </a:lnTo>
                <a:lnTo>
                  <a:pt x="246" y="374"/>
                </a:lnTo>
                <a:lnTo>
                  <a:pt x="291" y="374"/>
                </a:lnTo>
                <a:lnTo>
                  <a:pt x="318" y="392"/>
                </a:lnTo>
                <a:lnTo>
                  <a:pt x="338" y="425"/>
                </a:lnTo>
                <a:lnTo>
                  <a:pt x="338" y="468"/>
                </a:lnTo>
                <a:lnTo>
                  <a:pt x="321" y="506"/>
                </a:lnTo>
                <a:lnTo>
                  <a:pt x="284" y="528"/>
                </a:lnTo>
                <a:close/>
              </a:path>
            </a:pathLst>
          </a:custGeom>
          <a:solidFill>
            <a:srgbClr val="9797b7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94200" y="3778200"/>
            <a:ext cx="360720" cy="36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46" y="21474"/>
                </a:moveTo>
                <a:arcTo wR="10800" hR="10800" stAng="4874048" swAng="11551238"/>
                <a:lnTo>
                  <a:pt x="10800" y="10800"/>
                </a:lnTo>
                <a:close/>
              </a:path>
              <a:path fill="none" w="21600" h="21600">
                <a:moveTo>
                  <a:pt x="12446" y="21474"/>
                </a:moveTo>
                <a:arcTo wR="10800" hR="10800" stAng="4874048" swAng="11551238"/>
              </a:path>
            </a:pathLst>
          </a:cu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49760" y="3544920"/>
            <a:ext cx="883800" cy="83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38" y="21581"/>
                </a:moveTo>
                <a:arcTo wR="10800" hR="10800" stAng="5196836" swAng="10712363"/>
                <a:lnTo>
                  <a:pt x="10800" y="10800"/>
                </a:lnTo>
                <a:close/>
              </a:path>
              <a:path fill="none" w="21600" h="21600">
                <a:moveTo>
                  <a:pt x="11438" y="21581"/>
                </a:moveTo>
                <a:arcTo wR="10800" hR="10800" stAng="5196836" swAng="10712363"/>
              </a:path>
            </a:pathLst>
          </a:cu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99320" y="4136760"/>
            <a:ext cx="189720" cy="24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17" y="172"/>
                </a:moveTo>
                <a:arcTo wR="10800" hR="10800" stAng="-4786514" swAng="9905881"/>
                <a:lnTo>
                  <a:pt x="10800" y="10800"/>
                </a:lnTo>
                <a:close/>
              </a:path>
              <a:path fill="none" w="21600" h="21600">
                <a:moveTo>
                  <a:pt x="12717" y="172"/>
                </a:moveTo>
                <a:arcTo wR="10800" hR="10800" stAng="-4786514" swAng="9905881"/>
              </a:path>
            </a:pathLst>
          </a:cu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894920" y="3539880"/>
            <a:ext cx="275040" cy="26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717" y="172"/>
                </a:moveTo>
                <a:arcTo wR="10800" hR="10800" stAng="-4786514" swAng="7813964"/>
                <a:lnTo>
                  <a:pt x="10800" y="10800"/>
                </a:lnTo>
                <a:close/>
              </a:path>
              <a:path fill="none" w="21600" h="21600">
                <a:moveTo>
                  <a:pt x="12717" y="172"/>
                </a:moveTo>
                <a:arcTo wR="10800" hR="10800" stAng="-4786514" swAng="7813964"/>
              </a:path>
            </a:pathLst>
          </a:cu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40360" y="3735360"/>
            <a:ext cx="871200" cy="190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3476520" y="4059360"/>
            <a:ext cx="1255680" cy="3110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4608000">
            <a:off x="5510160" y="5098680"/>
            <a:ext cx="76320" cy="216000"/>
          </a:xfrm>
          <a:custGeom>
            <a:avLst/>
            <a:gdLst>
              <a:gd name="textAreaLeft" fmla="*/ 0 w 76320"/>
              <a:gd name="textAreaRight" fmla="*/ 27360 w 76320"/>
              <a:gd name="textAreaTop" fmla="*/ 11160 h 216000"/>
              <a:gd name="textAreaBottom" fmla="*/ 2048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3"/>
                  <a:pt x="10800" y="3606"/>
                </a:cubicBezTo>
                <a:lnTo>
                  <a:pt x="10800" y="6906"/>
                </a:lnTo>
                <a:cubicBezTo>
                  <a:pt x="10800" y="8709"/>
                  <a:pt x="16200" y="10512"/>
                  <a:pt x="21600" y="10512"/>
                </a:cubicBezTo>
                <a:cubicBezTo>
                  <a:pt x="16200" y="10512"/>
                  <a:pt x="10800" y="12315"/>
                  <a:pt x="10800" y="14118"/>
                </a:cubicBezTo>
                <a:lnTo>
                  <a:pt x="10800" y="17994"/>
                </a:lnTo>
                <a:cubicBezTo>
                  <a:pt x="10800" y="1979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4608000">
            <a:off x="5744880" y="5043240"/>
            <a:ext cx="75960" cy="215640"/>
          </a:xfrm>
          <a:custGeom>
            <a:avLst/>
            <a:gdLst>
              <a:gd name="textAreaLeft" fmla="*/ 0 w 75960"/>
              <a:gd name="textAreaRight" fmla="*/ 27360 w 75960"/>
              <a:gd name="textAreaTop" fmla="*/ 11160 h 215640"/>
              <a:gd name="textAreaBottom" fmla="*/ 20448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3"/>
                  <a:pt x="10800" y="3606"/>
                </a:cubicBezTo>
                <a:lnTo>
                  <a:pt x="10800" y="6906"/>
                </a:lnTo>
                <a:cubicBezTo>
                  <a:pt x="10800" y="8709"/>
                  <a:pt x="16200" y="10512"/>
                  <a:pt x="21600" y="10512"/>
                </a:cubicBezTo>
                <a:cubicBezTo>
                  <a:pt x="16200" y="10512"/>
                  <a:pt x="10800" y="12315"/>
                  <a:pt x="10800" y="14118"/>
                </a:cubicBezTo>
                <a:lnTo>
                  <a:pt x="10800" y="17994"/>
                </a:lnTo>
                <a:cubicBezTo>
                  <a:pt x="10800" y="1979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4608000">
            <a:off x="5981760" y="4987440"/>
            <a:ext cx="76320" cy="216000"/>
          </a:xfrm>
          <a:custGeom>
            <a:avLst/>
            <a:gdLst>
              <a:gd name="textAreaLeft" fmla="*/ 0 w 76320"/>
              <a:gd name="textAreaRight" fmla="*/ 27360 w 76320"/>
              <a:gd name="textAreaTop" fmla="*/ 11160 h 216000"/>
              <a:gd name="textAreaBottom" fmla="*/ 20484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3"/>
                  <a:pt x="10800" y="3606"/>
                </a:cubicBezTo>
                <a:lnTo>
                  <a:pt x="10800" y="6906"/>
                </a:lnTo>
                <a:cubicBezTo>
                  <a:pt x="10800" y="8709"/>
                  <a:pt x="16200" y="10512"/>
                  <a:pt x="21600" y="10512"/>
                </a:cubicBezTo>
                <a:cubicBezTo>
                  <a:pt x="16200" y="10512"/>
                  <a:pt x="10800" y="12315"/>
                  <a:pt x="10800" y="14118"/>
                </a:cubicBezTo>
                <a:lnTo>
                  <a:pt x="10800" y="17994"/>
                </a:lnTo>
                <a:cubicBezTo>
                  <a:pt x="10800" y="1979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48240" y="4803840"/>
            <a:ext cx="43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</a:t>
            </a:r>
            <a:r>
              <a:rPr b="1" lang="en-US" sz="1600" spc="-1" strike="noStrike" baseline="-25000">
                <a:solidFill>
                  <a:srgbClr val="545472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3759480" y="5450400"/>
            <a:ext cx="287280" cy="136440"/>
          </a:xfrm>
          <a:prstGeom prst="parallelogram">
            <a:avLst>
              <a:gd name="adj" fmla="val 87351"/>
            </a:avLst>
          </a:prstGeom>
          <a:solidFill>
            <a:srgbClr val="ffffff"/>
          </a:solidFill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824200" y="5524560"/>
            <a:ext cx="1074600" cy="2635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659640" y="5157720"/>
            <a:ext cx="16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Intervals of constant pixel overdraw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0200" y="5589720"/>
            <a:ext cx="576360" cy="72720"/>
          </a:xfrm>
          <a:custGeom>
            <a:avLst/>
            <a:gdLst/>
            <a:ahLst/>
            <a:rect l="l" t="t" r="r" b="b"/>
            <a:pathLst>
              <a:path w="590" h="97">
                <a:moveTo>
                  <a:pt x="590" y="45"/>
                </a:moveTo>
                <a:cubicBezTo>
                  <a:pt x="480" y="71"/>
                  <a:pt x="370" y="97"/>
                  <a:pt x="272" y="90"/>
                </a:cubicBezTo>
                <a:cubicBezTo>
                  <a:pt x="174" y="83"/>
                  <a:pt x="87" y="41"/>
                  <a:pt x="0" y="0"/>
                </a:cubicBezTo>
              </a:path>
            </a:pathLst>
          </a:custGeom>
          <a:noFill/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27000" bIns="270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87640" y="568476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tencil pixel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Picking Algorithm – Concav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t a parallel viewing volume constrained to the picking ra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each object in the scen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545472"/>
              </a:buClr>
              <a:buSzPct val="8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set the stencil buffer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545472"/>
              </a:buClr>
              <a:buSzPct val="8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raw the object of interest using the “increment” stencil opera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545472"/>
              </a:buClr>
              <a:buSzPct val="80000"/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ad the pixel of the projected 3D cursor: if the counting of pixel overdraw is even, the cursor is outside the objec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Snapp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Snapping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s a mechanism for constraining the movement of the curs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deal with the problem of snapping the 3D cursor to a smooth convex closed surfac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standard approach consists of computing the point on the surface nearest to the 3D cursor. This is a time-consuming procedur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Snapp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Our approach is based on the possibility of determining a tangent plane at each point on the surface (this is guaranteed by the smoothness condition)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Our 3D cursor snaps to this tangent plane, called </a:t>
            </a:r>
            <a:r>
              <a:rPr b="0" i="1" lang="en-US" sz="2600" spc="-1" strike="noStrike">
                <a:solidFill>
                  <a:srgbClr val="545472"/>
                </a:solidFill>
                <a:latin typeface="Tahoma"/>
              </a:rPr>
              <a:t>snap plane</a:t>
            </a: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, during a sequence of mouse move events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479760" y="4921200"/>
            <a:ext cx="1728360" cy="1171440"/>
            <a:chOff x="3479760" y="4921200"/>
            <a:chExt cx="1728360" cy="1171440"/>
          </a:xfrm>
        </p:grpSpPr>
        <p:sp>
          <p:nvSpPr>
            <p:cNvPr id="330" name=""/>
            <p:cNvSpPr/>
            <p:nvPr/>
          </p:nvSpPr>
          <p:spPr>
            <a:xfrm>
              <a:off x="3488400" y="4944960"/>
              <a:ext cx="1712160" cy="1144800"/>
            </a:xfrm>
            <a:custGeom>
              <a:avLst/>
              <a:gdLst/>
              <a:ahLst/>
              <a:rect l="l" t="t" r="r" b="b"/>
              <a:pathLst>
                <a:path w="1126" h="862">
                  <a:moveTo>
                    <a:pt x="944" y="862"/>
                  </a:moveTo>
                  <a:lnTo>
                    <a:pt x="1126" y="272"/>
                  </a:lnTo>
                  <a:lnTo>
                    <a:pt x="1022" y="176"/>
                  </a:lnTo>
                  <a:lnTo>
                    <a:pt x="948" y="110"/>
                  </a:lnTo>
                  <a:lnTo>
                    <a:pt x="858" y="52"/>
                  </a:lnTo>
                  <a:lnTo>
                    <a:pt x="780" y="18"/>
                  </a:lnTo>
                  <a:lnTo>
                    <a:pt x="712" y="4"/>
                  </a:lnTo>
                  <a:lnTo>
                    <a:pt x="640" y="0"/>
                  </a:lnTo>
                  <a:lnTo>
                    <a:pt x="538" y="10"/>
                  </a:lnTo>
                  <a:lnTo>
                    <a:pt x="420" y="46"/>
                  </a:lnTo>
                  <a:lnTo>
                    <a:pt x="336" y="72"/>
                  </a:lnTo>
                  <a:lnTo>
                    <a:pt x="176" y="130"/>
                  </a:lnTo>
                  <a:lnTo>
                    <a:pt x="0" y="716"/>
                  </a:lnTo>
                  <a:lnTo>
                    <a:pt x="162" y="654"/>
                  </a:lnTo>
                  <a:lnTo>
                    <a:pt x="296" y="612"/>
                  </a:lnTo>
                  <a:lnTo>
                    <a:pt x="418" y="588"/>
                  </a:lnTo>
                  <a:lnTo>
                    <a:pt x="524" y="588"/>
                  </a:lnTo>
                  <a:lnTo>
                    <a:pt x="592" y="602"/>
                  </a:lnTo>
                  <a:lnTo>
                    <a:pt x="674" y="638"/>
                  </a:lnTo>
                  <a:lnTo>
                    <a:pt x="750" y="684"/>
                  </a:lnTo>
                  <a:lnTo>
                    <a:pt x="852" y="772"/>
                  </a:lnTo>
                  <a:lnTo>
                    <a:pt x="944" y="8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3479760" y="4921200"/>
              <a:ext cx="1728360" cy="1171440"/>
              <a:chOff x="3479760" y="4921200"/>
              <a:chExt cx="1728360" cy="1171440"/>
            </a:xfrm>
          </p:grpSpPr>
          <p:sp>
            <p:nvSpPr>
              <p:cNvPr id="332" name=""/>
              <p:cNvSpPr/>
              <p:nvPr/>
            </p:nvSpPr>
            <p:spPr>
              <a:xfrm flipH="1">
                <a:off x="3485160" y="5117760"/>
                <a:ext cx="275400" cy="78372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4926960" y="5308920"/>
                <a:ext cx="275040" cy="78372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479760" y="5699520"/>
                <a:ext cx="1447200" cy="39312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760920" y="4921200"/>
                <a:ext cx="1447200" cy="39312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6" name=""/>
          <p:cNvSpPr/>
          <p:nvPr/>
        </p:nvSpPr>
        <p:spPr>
          <a:xfrm>
            <a:off x="3708360" y="4803840"/>
            <a:ext cx="1440000" cy="72072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068360" y="5068800"/>
            <a:ext cx="330120" cy="15732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398840" y="5068800"/>
            <a:ext cx="336600" cy="1634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4397400" y="4608360"/>
            <a:ext cx="1440" cy="43200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65720" y="5040360"/>
            <a:ext cx="69840" cy="69840"/>
          </a:xfrm>
          <a:prstGeom prst="ellipse">
            <a:avLst/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32360" y="46814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snap plan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51400" y="54244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232160" y="5156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800520" y="4976640"/>
            <a:ext cx="360360" cy="337320"/>
            <a:chOff x="3800520" y="4976640"/>
            <a:chExt cx="360360" cy="337320"/>
          </a:xfrm>
        </p:grpSpPr>
        <p:sp>
          <p:nvSpPr>
            <p:cNvPr id="345" name=""/>
            <p:cNvSpPr/>
            <p:nvPr/>
          </p:nvSpPr>
          <p:spPr>
            <a:xfrm>
              <a:off x="3800520" y="49766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54600" y="508320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4626000" y="4983120"/>
            <a:ext cx="360360" cy="337320"/>
            <a:chOff x="4626000" y="4983120"/>
            <a:chExt cx="360360" cy="337320"/>
          </a:xfrm>
        </p:grpSpPr>
        <p:sp>
          <p:nvSpPr>
            <p:cNvPr id="348" name=""/>
            <p:cNvSpPr/>
            <p:nvPr/>
          </p:nvSpPr>
          <p:spPr>
            <a:xfrm>
              <a:off x="4626000" y="49831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80080" y="508968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4370400" y="4440240"/>
            <a:ext cx="360360" cy="337320"/>
            <a:chOff x="4370400" y="4440240"/>
            <a:chExt cx="360360" cy="337320"/>
          </a:xfrm>
        </p:grpSpPr>
        <p:sp>
          <p:nvSpPr>
            <p:cNvPr id="351" name=""/>
            <p:cNvSpPr/>
            <p:nvPr/>
          </p:nvSpPr>
          <p:spPr>
            <a:xfrm>
              <a:off x="4370400" y="44402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24480" y="454644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Snapp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t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be the current 3D cursor position snapped to the surface. We first change the reference system of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o the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snapping reference coordina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SRC) system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987640" y="4200480"/>
            <a:ext cx="2735640" cy="1853640"/>
            <a:chOff x="2987640" y="4200480"/>
            <a:chExt cx="2735640" cy="1853640"/>
          </a:xfrm>
        </p:grpSpPr>
        <p:sp>
          <p:nvSpPr>
            <p:cNvPr id="356" name=""/>
            <p:cNvSpPr/>
            <p:nvPr/>
          </p:nvSpPr>
          <p:spPr>
            <a:xfrm>
              <a:off x="3001680" y="4238280"/>
              <a:ext cx="2710080" cy="1811520"/>
            </a:xfrm>
            <a:custGeom>
              <a:avLst/>
              <a:gdLst/>
              <a:ahLst/>
              <a:rect l="l" t="t" r="r" b="b"/>
              <a:pathLst>
                <a:path w="1126" h="862">
                  <a:moveTo>
                    <a:pt x="944" y="862"/>
                  </a:moveTo>
                  <a:lnTo>
                    <a:pt x="1126" y="272"/>
                  </a:lnTo>
                  <a:lnTo>
                    <a:pt x="1022" y="176"/>
                  </a:lnTo>
                  <a:lnTo>
                    <a:pt x="948" y="110"/>
                  </a:lnTo>
                  <a:lnTo>
                    <a:pt x="858" y="52"/>
                  </a:lnTo>
                  <a:lnTo>
                    <a:pt x="780" y="18"/>
                  </a:lnTo>
                  <a:lnTo>
                    <a:pt x="712" y="4"/>
                  </a:lnTo>
                  <a:lnTo>
                    <a:pt x="640" y="0"/>
                  </a:lnTo>
                  <a:lnTo>
                    <a:pt x="538" y="10"/>
                  </a:lnTo>
                  <a:lnTo>
                    <a:pt x="420" y="46"/>
                  </a:lnTo>
                  <a:lnTo>
                    <a:pt x="336" y="72"/>
                  </a:lnTo>
                  <a:lnTo>
                    <a:pt x="176" y="130"/>
                  </a:lnTo>
                  <a:lnTo>
                    <a:pt x="0" y="716"/>
                  </a:lnTo>
                  <a:lnTo>
                    <a:pt x="162" y="654"/>
                  </a:lnTo>
                  <a:lnTo>
                    <a:pt x="296" y="612"/>
                  </a:lnTo>
                  <a:lnTo>
                    <a:pt x="418" y="588"/>
                  </a:lnTo>
                  <a:lnTo>
                    <a:pt x="524" y="588"/>
                  </a:lnTo>
                  <a:lnTo>
                    <a:pt x="592" y="602"/>
                  </a:lnTo>
                  <a:lnTo>
                    <a:pt x="674" y="638"/>
                  </a:lnTo>
                  <a:lnTo>
                    <a:pt x="750" y="684"/>
                  </a:lnTo>
                  <a:lnTo>
                    <a:pt x="852" y="772"/>
                  </a:lnTo>
                  <a:lnTo>
                    <a:pt x="944" y="8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2987640" y="4200480"/>
              <a:ext cx="2735640" cy="1853640"/>
              <a:chOff x="2987640" y="4200480"/>
              <a:chExt cx="2735640" cy="1853640"/>
            </a:xfrm>
          </p:grpSpPr>
          <p:sp>
            <p:nvSpPr>
              <p:cNvPr id="358" name=""/>
              <p:cNvSpPr/>
              <p:nvPr/>
            </p:nvSpPr>
            <p:spPr>
              <a:xfrm flipH="1">
                <a:off x="2996280" y="4511520"/>
                <a:ext cx="435960" cy="123984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5277960" y="4814280"/>
                <a:ext cx="435240" cy="123984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987640" y="5431680"/>
                <a:ext cx="2290680" cy="62208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432600" y="4200480"/>
                <a:ext cx="2290680" cy="62208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3059280" y="522936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84720" y="4079880"/>
            <a:ext cx="2279520" cy="114156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87960" y="420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snap plan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067280" y="4483080"/>
            <a:ext cx="74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75080" y="4378320"/>
            <a:ext cx="111240" cy="111240"/>
          </a:xfrm>
          <a:prstGeom prst="ellipse">
            <a:avLst/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98440" y="4437000"/>
            <a:ext cx="523800" cy="24948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4437000"/>
            <a:ext cx="531720" cy="25884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4427280" y="3754440"/>
            <a:ext cx="3240" cy="68256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427640" y="3597120"/>
            <a:ext cx="360360" cy="337320"/>
            <a:chOff x="4427640" y="3597120"/>
            <a:chExt cx="360360" cy="337320"/>
          </a:xfrm>
        </p:grpSpPr>
        <p:sp>
          <p:nvSpPr>
            <p:cNvPr id="371" name=""/>
            <p:cNvSpPr/>
            <p:nvPr/>
          </p:nvSpPr>
          <p:spPr>
            <a:xfrm>
              <a:off x="4427640" y="35971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581720" y="370332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614760" y="4448160"/>
            <a:ext cx="360360" cy="337320"/>
            <a:chOff x="3614760" y="4448160"/>
            <a:chExt cx="360360" cy="337320"/>
          </a:xfrm>
        </p:grpSpPr>
        <p:sp>
          <p:nvSpPr>
            <p:cNvPr id="374" name=""/>
            <p:cNvSpPr/>
            <p:nvPr/>
          </p:nvSpPr>
          <p:spPr>
            <a:xfrm>
              <a:off x="3614760" y="44481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68840" y="455472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876920" y="4462560"/>
            <a:ext cx="360360" cy="337320"/>
            <a:chOff x="4876920" y="4462560"/>
            <a:chExt cx="360360" cy="337320"/>
          </a:xfrm>
        </p:grpSpPr>
        <p:sp>
          <p:nvSpPr>
            <p:cNvPr id="377" name=""/>
            <p:cNvSpPr/>
            <p:nvPr/>
          </p:nvSpPr>
          <p:spPr>
            <a:xfrm>
              <a:off x="4876920" y="4462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31000" y="456912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Snapp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displacement (</a:t>
            </a:r>
            <a:r>
              <a:rPr b="0" lang="el-GR" sz="28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lang="el-GR" sz="28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lang="el-GR" sz="28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) of the 3D cursor is rounded to (</a:t>
            </a:r>
            <a:r>
              <a:rPr b="0" lang="el-GR" sz="28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lang="el-GR" sz="28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0) and added to the coordinates of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= (0,0,0) in SRC(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987640" y="4200480"/>
            <a:ext cx="2735640" cy="1853640"/>
            <a:chOff x="2987640" y="4200480"/>
            <a:chExt cx="2735640" cy="1853640"/>
          </a:xfrm>
        </p:grpSpPr>
        <p:sp>
          <p:nvSpPr>
            <p:cNvPr id="382" name=""/>
            <p:cNvSpPr/>
            <p:nvPr/>
          </p:nvSpPr>
          <p:spPr>
            <a:xfrm>
              <a:off x="3001680" y="4238280"/>
              <a:ext cx="2710080" cy="1811520"/>
            </a:xfrm>
            <a:custGeom>
              <a:avLst/>
              <a:gdLst/>
              <a:ahLst/>
              <a:rect l="l" t="t" r="r" b="b"/>
              <a:pathLst>
                <a:path w="1126" h="862">
                  <a:moveTo>
                    <a:pt x="944" y="862"/>
                  </a:moveTo>
                  <a:lnTo>
                    <a:pt x="1126" y="272"/>
                  </a:lnTo>
                  <a:lnTo>
                    <a:pt x="1022" y="176"/>
                  </a:lnTo>
                  <a:lnTo>
                    <a:pt x="948" y="110"/>
                  </a:lnTo>
                  <a:lnTo>
                    <a:pt x="858" y="52"/>
                  </a:lnTo>
                  <a:lnTo>
                    <a:pt x="780" y="18"/>
                  </a:lnTo>
                  <a:lnTo>
                    <a:pt x="712" y="4"/>
                  </a:lnTo>
                  <a:lnTo>
                    <a:pt x="640" y="0"/>
                  </a:lnTo>
                  <a:lnTo>
                    <a:pt x="538" y="10"/>
                  </a:lnTo>
                  <a:lnTo>
                    <a:pt x="420" y="46"/>
                  </a:lnTo>
                  <a:lnTo>
                    <a:pt x="336" y="72"/>
                  </a:lnTo>
                  <a:lnTo>
                    <a:pt x="176" y="130"/>
                  </a:lnTo>
                  <a:lnTo>
                    <a:pt x="0" y="716"/>
                  </a:lnTo>
                  <a:lnTo>
                    <a:pt x="162" y="654"/>
                  </a:lnTo>
                  <a:lnTo>
                    <a:pt x="296" y="612"/>
                  </a:lnTo>
                  <a:lnTo>
                    <a:pt x="418" y="588"/>
                  </a:lnTo>
                  <a:lnTo>
                    <a:pt x="524" y="588"/>
                  </a:lnTo>
                  <a:lnTo>
                    <a:pt x="592" y="602"/>
                  </a:lnTo>
                  <a:lnTo>
                    <a:pt x="674" y="638"/>
                  </a:lnTo>
                  <a:lnTo>
                    <a:pt x="750" y="684"/>
                  </a:lnTo>
                  <a:lnTo>
                    <a:pt x="852" y="772"/>
                  </a:lnTo>
                  <a:lnTo>
                    <a:pt x="944" y="8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2987640" y="4200480"/>
              <a:ext cx="2735640" cy="1853640"/>
              <a:chOff x="2987640" y="4200480"/>
              <a:chExt cx="2735640" cy="1853640"/>
            </a:xfrm>
          </p:grpSpPr>
          <p:sp>
            <p:nvSpPr>
              <p:cNvPr id="384" name=""/>
              <p:cNvSpPr/>
              <p:nvPr/>
            </p:nvSpPr>
            <p:spPr>
              <a:xfrm flipH="1">
                <a:off x="2996280" y="4511520"/>
                <a:ext cx="435960" cy="123984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5277960" y="4814280"/>
                <a:ext cx="435240" cy="123984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87640" y="5431680"/>
                <a:ext cx="2290680" cy="62208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432600" y="4200480"/>
                <a:ext cx="2290680" cy="62208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8" name=""/>
          <p:cNvSpPr/>
          <p:nvPr/>
        </p:nvSpPr>
        <p:spPr>
          <a:xfrm>
            <a:off x="3384720" y="4079880"/>
            <a:ext cx="2279520" cy="114156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3898440" y="4437000"/>
            <a:ext cx="523800" cy="24948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27640" y="4437000"/>
            <a:ext cx="531720" cy="25884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4427280" y="3754440"/>
            <a:ext cx="3240" cy="68256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87960" y="420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snap plan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59280" y="522936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54320" y="4465800"/>
            <a:ext cx="74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424400" y="3995280"/>
            <a:ext cx="482400" cy="43524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75080" y="4378320"/>
            <a:ext cx="111240" cy="111240"/>
          </a:xfrm>
          <a:prstGeom prst="ellipse">
            <a:avLst/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33840" y="3716280"/>
            <a:ext cx="20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1" lang="el-GR" sz="16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1" lang="el-GR" sz="16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v</a:t>
            </a: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1" lang="el-GR" sz="16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427640" y="3597120"/>
            <a:ext cx="360360" cy="337320"/>
            <a:chOff x="4427640" y="3597120"/>
            <a:chExt cx="360360" cy="337320"/>
          </a:xfrm>
        </p:grpSpPr>
        <p:sp>
          <p:nvSpPr>
            <p:cNvPr id="399" name=""/>
            <p:cNvSpPr/>
            <p:nvPr/>
          </p:nvSpPr>
          <p:spPr>
            <a:xfrm>
              <a:off x="4427640" y="35971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81720" y="370332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614760" y="4448160"/>
            <a:ext cx="360360" cy="337320"/>
            <a:chOff x="3614760" y="4448160"/>
            <a:chExt cx="360360" cy="337320"/>
          </a:xfrm>
        </p:grpSpPr>
        <p:sp>
          <p:nvSpPr>
            <p:cNvPr id="402" name=""/>
            <p:cNvSpPr/>
            <p:nvPr/>
          </p:nvSpPr>
          <p:spPr>
            <a:xfrm>
              <a:off x="3614760" y="44481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768840" y="455472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876920" y="4462560"/>
            <a:ext cx="360360" cy="337320"/>
            <a:chOff x="4876920" y="4462560"/>
            <a:chExt cx="360360" cy="337320"/>
          </a:xfrm>
        </p:grpSpPr>
        <p:sp>
          <p:nvSpPr>
            <p:cNvPr id="405" name=""/>
            <p:cNvSpPr/>
            <p:nvPr/>
          </p:nvSpPr>
          <p:spPr>
            <a:xfrm>
              <a:off x="4876920" y="4462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31000" y="456912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Snapp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displacement (</a:t>
            </a:r>
            <a:r>
              <a:rPr b="0" lang="el-GR" sz="28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lang="el-GR" sz="28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lang="el-GR" sz="28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) of the 3D cursor is rounded to (</a:t>
            </a:r>
            <a:r>
              <a:rPr b="0" lang="el-GR" sz="28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lang="el-GR" sz="28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0) and added to the coordinates of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= (0,0,0) in SRC(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987640" y="4200480"/>
            <a:ext cx="2735640" cy="1853640"/>
            <a:chOff x="2987640" y="4200480"/>
            <a:chExt cx="2735640" cy="1853640"/>
          </a:xfrm>
        </p:grpSpPr>
        <p:sp>
          <p:nvSpPr>
            <p:cNvPr id="410" name=""/>
            <p:cNvSpPr/>
            <p:nvPr/>
          </p:nvSpPr>
          <p:spPr>
            <a:xfrm>
              <a:off x="3001680" y="4238280"/>
              <a:ext cx="2710080" cy="1811520"/>
            </a:xfrm>
            <a:custGeom>
              <a:avLst/>
              <a:gdLst/>
              <a:ahLst/>
              <a:rect l="l" t="t" r="r" b="b"/>
              <a:pathLst>
                <a:path w="1126" h="862">
                  <a:moveTo>
                    <a:pt x="944" y="862"/>
                  </a:moveTo>
                  <a:lnTo>
                    <a:pt x="1126" y="272"/>
                  </a:lnTo>
                  <a:lnTo>
                    <a:pt x="1022" y="176"/>
                  </a:lnTo>
                  <a:lnTo>
                    <a:pt x="948" y="110"/>
                  </a:lnTo>
                  <a:lnTo>
                    <a:pt x="858" y="52"/>
                  </a:lnTo>
                  <a:lnTo>
                    <a:pt x="780" y="18"/>
                  </a:lnTo>
                  <a:lnTo>
                    <a:pt x="712" y="4"/>
                  </a:lnTo>
                  <a:lnTo>
                    <a:pt x="640" y="0"/>
                  </a:lnTo>
                  <a:lnTo>
                    <a:pt x="538" y="10"/>
                  </a:lnTo>
                  <a:lnTo>
                    <a:pt x="420" y="46"/>
                  </a:lnTo>
                  <a:lnTo>
                    <a:pt x="336" y="72"/>
                  </a:lnTo>
                  <a:lnTo>
                    <a:pt x="176" y="130"/>
                  </a:lnTo>
                  <a:lnTo>
                    <a:pt x="0" y="716"/>
                  </a:lnTo>
                  <a:lnTo>
                    <a:pt x="162" y="654"/>
                  </a:lnTo>
                  <a:lnTo>
                    <a:pt x="296" y="612"/>
                  </a:lnTo>
                  <a:lnTo>
                    <a:pt x="418" y="588"/>
                  </a:lnTo>
                  <a:lnTo>
                    <a:pt x="524" y="588"/>
                  </a:lnTo>
                  <a:lnTo>
                    <a:pt x="592" y="602"/>
                  </a:lnTo>
                  <a:lnTo>
                    <a:pt x="674" y="638"/>
                  </a:lnTo>
                  <a:lnTo>
                    <a:pt x="750" y="684"/>
                  </a:lnTo>
                  <a:lnTo>
                    <a:pt x="852" y="772"/>
                  </a:lnTo>
                  <a:lnTo>
                    <a:pt x="944" y="8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2987640" y="4200480"/>
              <a:ext cx="2735640" cy="1853640"/>
              <a:chOff x="2987640" y="4200480"/>
              <a:chExt cx="2735640" cy="1853640"/>
            </a:xfrm>
          </p:grpSpPr>
          <p:sp>
            <p:nvSpPr>
              <p:cNvPr id="412" name=""/>
              <p:cNvSpPr/>
              <p:nvPr/>
            </p:nvSpPr>
            <p:spPr>
              <a:xfrm flipH="1">
                <a:off x="2996280" y="4511520"/>
                <a:ext cx="435960" cy="123984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5277960" y="4814280"/>
                <a:ext cx="435240" cy="123984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987640" y="5431680"/>
                <a:ext cx="2290680" cy="62208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432600" y="4200480"/>
                <a:ext cx="2290680" cy="62208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6" name=""/>
          <p:cNvSpPr/>
          <p:nvPr/>
        </p:nvSpPr>
        <p:spPr>
          <a:xfrm>
            <a:off x="3384720" y="4079880"/>
            <a:ext cx="2279520" cy="114156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898440" y="4437000"/>
            <a:ext cx="523800" cy="24948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27640" y="4437000"/>
            <a:ext cx="531720" cy="25884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4427280" y="3754440"/>
            <a:ext cx="3240" cy="68256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7960" y="42037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snap plan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59280" y="522936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054320" y="4465800"/>
            <a:ext cx="74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4424400" y="3995280"/>
            <a:ext cx="482400" cy="435240"/>
          </a:xfrm>
          <a:prstGeom prst="line">
            <a:avLst/>
          </a:prstGeom>
          <a:ln w="19080">
            <a:solidFill>
              <a:srgbClr val="545472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75080" y="4378320"/>
            <a:ext cx="111240" cy="111240"/>
          </a:xfrm>
          <a:prstGeom prst="ellipse">
            <a:avLst/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427640" y="3597120"/>
            <a:ext cx="360360" cy="337320"/>
            <a:chOff x="4427640" y="3597120"/>
            <a:chExt cx="360360" cy="337320"/>
          </a:xfrm>
        </p:grpSpPr>
        <p:sp>
          <p:nvSpPr>
            <p:cNvPr id="426" name=""/>
            <p:cNvSpPr/>
            <p:nvPr/>
          </p:nvSpPr>
          <p:spPr>
            <a:xfrm>
              <a:off x="4427640" y="359712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81720" y="370332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614760" y="4448160"/>
            <a:ext cx="360360" cy="337320"/>
            <a:chOff x="3614760" y="4448160"/>
            <a:chExt cx="360360" cy="337320"/>
          </a:xfrm>
        </p:grpSpPr>
        <p:sp>
          <p:nvSpPr>
            <p:cNvPr id="429" name=""/>
            <p:cNvSpPr/>
            <p:nvPr/>
          </p:nvSpPr>
          <p:spPr>
            <a:xfrm>
              <a:off x="3614760" y="44481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68840" y="455472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876920" y="4462560"/>
            <a:ext cx="360360" cy="337320"/>
            <a:chOff x="4876920" y="4462560"/>
            <a:chExt cx="360360" cy="337320"/>
          </a:xfrm>
        </p:grpSpPr>
        <p:sp>
          <p:nvSpPr>
            <p:cNvPr id="432" name=""/>
            <p:cNvSpPr/>
            <p:nvPr/>
          </p:nvSpPr>
          <p:spPr>
            <a:xfrm>
              <a:off x="4876920" y="446256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31000" y="456912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4898880" y="4005360"/>
            <a:ext cx="0" cy="863640"/>
          </a:xfrm>
          <a:prstGeom prst="line">
            <a:avLst/>
          </a:prstGeom>
          <a:ln cap="rnd" w="1908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27640" y="4437000"/>
            <a:ext cx="468360" cy="439920"/>
          </a:xfrm>
          <a:prstGeom prst="line">
            <a:avLst/>
          </a:prstGeom>
          <a:ln w="19080">
            <a:solidFill>
              <a:srgbClr val="545472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33840" y="3716280"/>
            <a:ext cx="205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1" lang="el-GR" sz="16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1" lang="el-GR" sz="16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v</a:t>
            </a: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1" lang="el-GR" sz="16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57480" y="4869000"/>
            <a:ext cx="205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1" lang="el-GR" sz="16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u</a:t>
            </a: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1" lang="el-GR" sz="1600" spc="-1" strike="noStrike">
                <a:solidFill>
                  <a:srgbClr val="545472"/>
                </a:solidFill>
                <a:latin typeface="Tahoma"/>
              </a:rPr>
              <a:t>Δ</a:t>
            </a: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v</a:t>
            </a: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, 0)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Snapp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n we project this point parallel onto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n the direction of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o obtain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545472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987640" y="4195800"/>
            <a:ext cx="2735640" cy="1853280"/>
            <a:chOff x="2987640" y="4195800"/>
            <a:chExt cx="2735640" cy="1853280"/>
          </a:xfrm>
        </p:grpSpPr>
        <p:sp>
          <p:nvSpPr>
            <p:cNvPr id="441" name=""/>
            <p:cNvSpPr/>
            <p:nvPr/>
          </p:nvSpPr>
          <p:spPr>
            <a:xfrm>
              <a:off x="3001680" y="4233600"/>
              <a:ext cx="2710080" cy="1811160"/>
            </a:xfrm>
            <a:custGeom>
              <a:avLst/>
              <a:gdLst/>
              <a:ahLst/>
              <a:rect l="l" t="t" r="r" b="b"/>
              <a:pathLst>
                <a:path w="1126" h="862">
                  <a:moveTo>
                    <a:pt x="944" y="862"/>
                  </a:moveTo>
                  <a:lnTo>
                    <a:pt x="1126" y="272"/>
                  </a:lnTo>
                  <a:lnTo>
                    <a:pt x="1022" y="176"/>
                  </a:lnTo>
                  <a:lnTo>
                    <a:pt x="948" y="110"/>
                  </a:lnTo>
                  <a:lnTo>
                    <a:pt x="858" y="52"/>
                  </a:lnTo>
                  <a:lnTo>
                    <a:pt x="780" y="18"/>
                  </a:lnTo>
                  <a:lnTo>
                    <a:pt x="712" y="4"/>
                  </a:lnTo>
                  <a:lnTo>
                    <a:pt x="640" y="0"/>
                  </a:lnTo>
                  <a:lnTo>
                    <a:pt x="538" y="10"/>
                  </a:lnTo>
                  <a:lnTo>
                    <a:pt x="420" y="46"/>
                  </a:lnTo>
                  <a:lnTo>
                    <a:pt x="336" y="72"/>
                  </a:lnTo>
                  <a:lnTo>
                    <a:pt x="176" y="130"/>
                  </a:lnTo>
                  <a:lnTo>
                    <a:pt x="0" y="716"/>
                  </a:lnTo>
                  <a:lnTo>
                    <a:pt x="162" y="654"/>
                  </a:lnTo>
                  <a:lnTo>
                    <a:pt x="296" y="612"/>
                  </a:lnTo>
                  <a:lnTo>
                    <a:pt x="418" y="588"/>
                  </a:lnTo>
                  <a:lnTo>
                    <a:pt x="524" y="588"/>
                  </a:lnTo>
                  <a:lnTo>
                    <a:pt x="592" y="602"/>
                  </a:lnTo>
                  <a:lnTo>
                    <a:pt x="674" y="638"/>
                  </a:lnTo>
                  <a:lnTo>
                    <a:pt x="750" y="684"/>
                  </a:lnTo>
                  <a:lnTo>
                    <a:pt x="852" y="772"/>
                  </a:lnTo>
                  <a:lnTo>
                    <a:pt x="944" y="8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987640" y="4195800"/>
              <a:ext cx="2735640" cy="1853280"/>
              <a:chOff x="2987640" y="4195800"/>
              <a:chExt cx="2735640" cy="185328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2996280" y="4506840"/>
                <a:ext cx="435960" cy="123948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5277960" y="4809240"/>
                <a:ext cx="435240" cy="123948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987640" y="5427000"/>
                <a:ext cx="2290680" cy="62208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432600" y="4195800"/>
                <a:ext cx="2290680" cy="62208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7" name=""/>
          <p:cNvSpPr/>
          <p:nvPr/>
        </p:nvSpPr>
        <p:spPr>
          <a:xfrm>
            <a:off x="3384720" y="4075200"/>
            <a:ext cx="2279520" cy="1141200"/>
          </a:xfrm>
          <a:prstGeom prst="flowChartDecision">
            <a:avLst/>
          </a:prstGeom>
          <a:solidFill>
            <a:srgbClr val="ffffff"/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3898440" y="4432320"/>
            <a:ext cx="523800" cy="24912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27640" y="4432320"/>
            <a:ext cx="531720" cy="25884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4427280" y="3749760"/>
            <a:ext cx="3240" cy="682560"/>
          </a:xfrm>
          <a:prstGeom prst="line">
            <a:avLst/>
          </a:prstGeom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7960" y="419904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snap plan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059280" y="522432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054320" y="4460760"/>
            <a:ext cx="74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75080" y="4373640"/>
            <a:ext cx="111240" cy="110880"/>
          </a:xfrm>
          <a:prstGeom prst="ellipse">
            <a:avLst/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427640" y="3592440"/>
            <a:ext cx="360360" cy="337320"/>
            <a:chOff x="4427640" y="3592440"/>
            <a:chExt cx="360360" cy="337320"/>
          </a:xfrm>
        </p:grpSpPr>
        <p:sp>
          <p:nvSpPr>
            <p:cNvPr id="456" name=""/>
            <p:cNvSpPr/>
            <p:nvPr/>
          </p:nvSpPr>
          <p:spPr>
            <a:xfrm>
              <a:off x="4427640" y="359244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81720" y="369864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3614760" y="4443480"/>
            <a:ext cx="360360" cy="337320"/>
            <a:chOff x="3614760" y="4443480"/>
            <a:chExt cx="360360" cy="337320"/>
          </a:xfrm>
        </p:grpSpPr>
        <p:sp>
          <p:nvSpPr>
            <p:cNvPr id="459" name=""/>
            <p:cNvSpPr/>
            <p:nvPr/>
          </p:nvSpPr>
          <p:spPr>
            <a:xfrm>
              <a:off x="3614760" y="44434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768840" y="455004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876920" y="4457880"/>
            <a:ext cx="360360" cy="337320"/>
            <a:chOff x="4876920" y="4457880"/>
            <a:chExt cx="360360" cy="337320"/>
          </a:xfrm>
        </p:grpSpPr>
        <p:sp>
          <p:nvSpPr>
            <p:cNvPr id="462" name=""/>
            <p:cNvSpPr/>
            <p:nvPr/>
          </p:nvSpPr>
          <p:spPr>
            <a:xfrm>
              <a:off x="4876920" y="4457880"/>
              <a:ext cx="36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545472"/>
                  </a:solidFill>
                  <a:latin typeface="Times New Roman"/>
                </a:rPr>
                <a:t>v</a:t>
              </a:r>
              <a:endParaRPr b="0" lang="en-US" sz="16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1000" y="4564080"/>
              <a:ext cx="81000" cy="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4898880" y="4870440"/>
            <a:ext cx="0" cy="430200"/>
          </a:xfrm>
          <a:prstGeom prst="line">
            <a:avLst/>
          </a:prstGeom>
          <a:ln cap="rnd" w="1908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427640" y="4432320"/>
            <a:ext cx="468360" cy="439560"/>
          </a:xfrm>
          <a:prstGeom prst="line">
            <a:avLst/>
          </a:prstGeom>
          <a:ln w="19080">
            <a:solidFill>
              <a:srgbClr val="545472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40200" y="5261040"/>
            <a:ext cx="111240" cy="111240"/>
          </a:xfrm>
          <a:prstGeom prst="ellipse">
            <a:avLst/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786200" y="5229360"/>
            <a:ext cx="74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545472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33840" y="2449440"/>
            <a:ext cx="17928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Snapping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inally, we change the reference system of </a:t>
            </a:r>
            <a:r>
              <a:rPr b="0" i="1" lang="en-US" sz="28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545472"/>
                </a:solidFill>
                <a:latin typeface="Times New Roman"/>
              </a:rPr>
              <a:t>i+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back to the world coordinate system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987640" y="4192560"/>
            <a:ext cx="2735640" cy="1853640"/>
            <a:chOff x="2987640" y="4192560"/>
            <a:chExt cx="2735640" cy="1853640"/>
          </a:xfrm>
        </p:grpSpPr>
        <p:sp>
          <p:nvSpPr>
            <p:cNvPr id="472" name=""/>
            <p:cNvSpPr/>
            <p:nvPr/>
          </p:nvSpPr>
          <p:spPr>
            <a:xfrm>
              <a:off x="3001680" y="4230360"/>
              <a:ext cx="2710080" cy="1811520"/>
            </a:xfrm>
            <a:custGeom>
              <a:avLst/>
              <a:gdLst/>
              <a:ahLst/>
              <a:rect l="l" t="t" r="r" b="b"/>
              <a:pathLst>
                <a:path w="1126" h="862">
                  <a:moveTo>
                    <a:pt x="944" y="862"/>
                  </a:moveTo>
                  <a:lnTo>
                    <a:pt x="1126" y="272"/>
                  </a:lnTo>
                  <a:lnTo>
                    <a:pt x="1022" y="176"/>
                  </a:lnTo>
                  <a:lnTo>
                    <a:pt x="948" y="110"/>
                  </a:lnTo>
                  <a:lnTo>
                    <a:pt x="858" y="52"/>
                  </a:lnTo>
                  <a:lnTo>
                    <a:pt x="780" y="18"/>
                  </a:lnTo>
                  <a:lnTo>
                    <a:pt x="712" y="4"/>
                  </a:lnTo>
                  <a:lnTo>
                    <a:pt x="640" y="0"/>
                  </a:lnTo>
                  <a:lnTo>
                    <a:pt x="538" y="10"/>
                  </a:lnTo>
                  <a:lnTo>
                    <a:pt x="420" y="46"/>
                  </a:lnTo>
                  <a:lnTo>
                    <a:pt x="336" y="72"/>
                  </a:lnTo>
                  <a:lnTo>
                    <a:pt x="176" y="130"/>
                  </a:lnTo>
                  <a:lnTo>
                    <a:pt x="0" y="716"/>
                  </a:lnTo>
                  <a:lnTo>
                    <a:pt x="162" y="654"/>
                  </a:lnTo>
                  <a:lnTo>
                    <a:pt x="296" y="612"/>
                  </a:lnTo>
                  <a:lnTo>
                    <a:pt x="418" y="588"/>
                  </a:lnTo>
                  <a:lnTo>
                    <a:pt x="524" y="588"/>
                  </a:lnTo>
                  <a:lnTo>
                    <a:pt x="592" y="602"/>
                  </a:lnTo>
                  <a:lnTo>
                    <a:pt x="674" y="638"/>
                  </a:lnTo>
                  <a:lnTo>
                    <a:pt x="750" y="684"/>
                  </a:lnTo>
                  <a:lnTo>
                    <a:pt x="852" y="772"/>
                  </a:lnTo>
                  <a:lnTo>
                    <a:pt x="944" y="86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2987640" y="4192560"/>
              <a:ext cx="2735640" cy="1853640"/>
              <a:chOff x="2987640" y="4192560"/>
              <a:chExt cx="2735640" cy="185364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2996280" y="4503600"/>
                <a:ext cx="435960" cy="123984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5277960" y="4806360"/>
                <a:ext cx="435240" cy="1239840"/>
              </a:xfrm>
              <a:prstGeom prst="line">
                <a:avLst/>
              </a:prstGeom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987640" y="5423760"/>
                <a:ext cx="2290680" cy="62208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432600" y="4192560"/>
                <a:ext cx="2290680" cy="622080"/>
              </a:xfrm>
              <a:custGeom>
                <a:avLst/>
                <a:gdLst/>
                <a:ahLst/>
                <a:rect l="l" t="t" r="r" b="b"/>
                <a:pathLst>
                  <a:path w="952" h="296">
                    <a:moveTo>
                      <a:pt x="952" y="296"/>
                    </a:moveTo>
                    <a:cubicBezTo>
                      <a:pt x="827" y="172"/>
                      <a:pt x="703" y="48"/>
                      <a:pt x="544" y="24"/>
                    </a:cubicBezTo>
                    <a:cubicBezTo>
                      <a:pt x="385" y="0"/>
                      <a:pt x="192" y="75"/>
                      <a:pt x="0" y="150"/>
                    </a:cubicBezTo>
                  </a:path>
                </a:pathLst>
              </a:custGeom>
              <a:noFill/>
              <a:ln w="19080">
                <a:solidFill>
                  <a:srgbClr val="5454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"/>
          <p:cNvSpPr/>
          <p:nvPr/>
        </p:nvSpPr>
        <p:spPr>
          <a:xfrm>
            <a:off x="3059280" y="5221440"/>
            <a:ext cx="5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54480" y="4348080"/>
            <a:ext cx="749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545472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75080" y="4370400"/>
            <a:ext cx="111240" cy="111240"/>
          </a:xfrm>
          <a:prstGeom prst="ellipse">
            <a:avLst/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40200" y="5257800"/>
            <a:ext cx="111240" cy="111240"/>
          </a:xfrm>
          <a:prstGeom prst="ellipse">
            <a:avLst/>
          </a:prstGeom>
          <a:solidFill>
            <a:srgbClr val="545472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86200" y="5229360"/>
            <a:ext cx="74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P</a:t>
            </a:r>
            <a:r>
              <a:rPr b="1" i="1" lang="en-US" sz="1600" spc="-1" strike="noStrike" baseline="-25000">
                <a:solidFill>
                  <a:srgbClr val="545472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ample Applica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38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tching cubes game: picking and dragging with the SpaceBall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596880" y="3227400"/>
            <a:ext cx="1911240" cy="1681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4"/>
          <a:stretch/>
        </p:blipFill>
        <p:spPr>
          <a:xfrm>
            <a:off x="2614680" y="3213000"/>
            <a:ext cx="1914480" cy="16844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5"/>
          <a:stretch/>
        </p:blipFill>
        <p:spPr>
          <a:xfrm>
            <a:off x="4630680" y="3227400"/>
            <a:ext cx="1908360" cy="16794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6"/>
          <a:stretch/>
        </p:blipFill>
        <p:spPr>
          <a:xfrm>
            <a:off x="6624720" y="3227400"/>
            <a:ext cx="1908000" cy="16794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611280" y="494172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(1) Moving the 3d cursor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627280" y="4941720"/>
            <a:ext cx="18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(2) Picking up a solid cube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43280" y="494172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(3) Dragging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59640" y="495144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(4) Matching with the wireframe cube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direct-manipulation graphics systems relies on two basic interaction tasks: selecting and dragging graphical objects with a pointing devic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2D mouses are the standard pointing devices in such graphics systems (mainly in window systems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Video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ample Applicatio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9185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napping on surfac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3"/>
          <a:stretch/>
        </p:blipFill>
        <p:spPr>
          <a:xfrm>
            <a:off x="2124000" y="2781360"/>
            <a:ext cx="2548080" cy="2241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4861080" y="2781360"/>
            <a:ext cx="2547720" cy="22413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871720" y="51577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ahoma"/>
              </a:rPr>
              <a:t>Snapping on a sphere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5800" y="47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Video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oncluding Remark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We presented an algorithm for snapping a 3D cursor on convex smooth surfaces and a simple application-independent 3D picking algorithm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Both algorithms were integrated in MTK (Manipulation Toolkit), a direct-manipulation API developed on top of OpenGL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45472"/>
                </a:solidFill>
                <a:latin typeface="Tahoma"/>
              </a:rPr>
              <a:t>Currently, the snapping algorithm still depends on the application for computing the snap plane. Fortunately, we may use programmable graphics hw to overcome this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47498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ever, interaction may be facilitated by using a 3D pointing devic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ne such relatively widespread 3D pointing device is the SpaceBall</a:t>
            </a:r>
            <a:r>
              <a:rPr b="0" lang="pt-BR" sz="2800" spc="-1" strike="noStrike" baseline="30000">
                <a:solidFill>
                  <a:srgbClr val="545472"/>
                </a:solidFill>
                <a:latin typeface="Tahoma"/>
              </a:rPr>
              <a:t>®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3Dconnexion Corp. (a Logitech company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425916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ahoma"/>
              </a:rPr>
              <a:t>SpaceBall 5000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545472"/>
                </a:solidFill>
                <a:latin typeface="Tahoma"/>
              </a:rPr>
              <a:t>(http://www.3dconnexion.com/)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722920" y="2216160"/>
            <a:ext cx="228600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us, the user may point and select the objects with a mouse cursor (in 2D space) and drag them in the 3D scene using the SpaceBall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ever, it may be desirable to perform both pointing and selection directly in the 3D spac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ur Proposal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vise a simple application-independent algorithm for selecting (picking) and positioning objects in the 3D scene with a 3D pointing device capable of providing absolute or relative positions in the 3D space (the device we chose was the SpaceBall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also propose a 3D snapping algorithm for constraining the movement of the 3D cursor on the surface of the scene objec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Picking – Naïve Approach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icking using point-in-solid tes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pplication-dependent and potentially slow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349440" y="2997360"/>
            <a:ext cx="790560" cy="1655640"/>
            <a:chOff x="3349440" y="2997360"/>
            <a:chExt cx="790560" cy="1655640"/>
          </a:xfrm>
        </p:grpSpPr>
        <p:sp>
          <p:nvSpPr>
            <p:cNvPr id="150" name=""/>
            <p:cNvSpPr/>
            <p:nvPr/>
          </p:nvSpPr>
          <p:spPr>
            <a:xfrm rot="5400000">
              <a:off x="2917080" y="3430800"/>
              <a:ext cx="1655640" cy="788400"/>
            </a:xfrm>
            <a:prstGeom prst="parallelogram">
              <a:avLst>
                <a:gd name="adj" fmla="val 87121"/>
              </a:avLst>
            </a:prstGeom>
            <a:solidFill>
              <a:srgbClr val="ffffff"/>
            </a:solidFill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47800" y="3175560"/>
              <a:ext cx="0" cy="96012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45440" y="3353040"/>
              <a:ext cx="0" cy="96012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2360" y="3518280"/>
              <a:ext cx="0" cy="9558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48800" y="3090960"/>
              <a:ext cx="0" cy="961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46440" y="3257640"/>
              <a:ext cx="0" cy="96768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43360" y="3430800"/>
              <a:ext cx="0" cy="96804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1360" y="3604320"/>
              <a:ext cx="0" cy="96768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3349440" y="3787920"/>
              <a:ext cx="789480" cy="682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3350880" y="3606840"/>
              <a:ext cx="789120" cy="682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3350880" y="3425400"/>
              <a:ext cx="789120" cy="6822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3350880" y="3218400"/>
              <a:ext cx="789120" cy="682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572000" y="2781360"/>
            <a:ext cx="576360" cy="1366560"/>
            <a:chOff x="4572000" y="2781360"/>
            <a:chExt cx="576360" cy="1366560"/>
          </a:xfrm>
        </p:grpSpPr>
        <p:sp>
          <p:nvSpPr>
            <p:cNvPr id="163" name=""/>
            <p:cNvSpPr/>
            <p:nvPr/>
          </p:nvSpPr>
          <p:spPr>
            <a:xfrm>
              <a:off x="4572000" y="3860640"/>
              <a:ext cx="576360" cy="287280"/>
            </a:xfrm>
            <a:prstGeom prst="ellipse">
              <a:avLst/>
            </a:prstGeom>
            <a:solidFill>
              <a:srgbClr val="9797b7"/>
            </a:solidFill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2781360"/>
              <a:ext cx="576360" cy="1223640"/>
            </a:xfrm>
            <a:prstGeom prst="triangle">
              <a:avLst>
                <a:gd name="adj" fmla="val 50000"/>
              </a:avLst>
            </a:prstGeom>
            <a:solidFill>
              <a:srgbClr val="9797b7"/>
            </a:solidFill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38960" y="4005000"/>
              <a:ext cx="442800" cy="0"/>
            </a:xfrm>
            <a:prstGeom prst="line">
              <a:avLst/>
            </a:prstGeom>
            <a:ln w="38160">
              <a:solidFill>
                <a:srgbClr val="9797b7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580000" y="2852640"/>
            <a:ext cx="792360" cy="792360"/>
          </a:xfrm>
          <a:prstGeom prst="ellipse">
            <a:avLst/>
          </a:prstGeom>
          <a:solidFill>
            <a:srgbClr val="9797b7"/>
          </a:solidFill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771640" y="3976200"/>
            <a:ext cx="287640" cy="71640"/>
          </a:xfrm>
          <a:prstGeom prst="line">
            <a:avLst/>
          </a:prstGeom>
          <a:ln cap="rnd" w="1908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5700600" y="3102120"/>
            <a:ext cx="289080" cy="322200"/>
            <a:chOff x="5700600" y="3102120"/>
            <a:chExt cx="289080" cy="322200"/>
          </a:xfrm>
        </p:grpSpPr>
        <p:sp>
          <p:nvSpPr>
            <p:cNvPr id="169" name=""/>
            <p:cNvSpPr/>
            <p:nvPr/>
          </p:nvSpPr>
          <p:spPr>
            <a:xfrm flipH="1">
              <a:off x="5700600" y="3279960"/>
              <a:ext cx="144720" cy="144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45320" y="3279960"/>
              <a:ext cx="144360" cy="144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845320" y="3102120"/>
              <a:ext cx="0" cy="177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11840" y="3251520"/>
              <a:ext cx="69840" cy="6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748480" y="3092400"/>
            <a:ext cx="156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3d cursor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36399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Ey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60720" y="46483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Projection plan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421632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cene object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995640" y="2924280"/>
            <a:ext cx="576360" cy="576000"/>
          </a:xfrm>
          <a:prstGeom prst="ellipse">
            <a:avLst/>
          </a:prstGeom>
          <a:solidFill>
            <a:srgbClr val="9797b7"/>
          </a:solidFill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5623560" y="3751560"/>
            <a:ext cx="360360" cy="434880"/>
          </a:xfrm>
          <a:prstGeom prst="cube">
            <a:avLst>
              <a:gd name="adj" fmla="val 37500"/>
            </a:avLst>
          </a:prstGeom>
          <a:solidFill>
            <a:srgbClr val="9797b7"/>
          </a:solidFill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414520" y="4016160"/>
            <a:ext cx="226800" cy="167040"/>
            <a:chOff x="2414520" y="4016160"/>
            <a:chExt cx="226800" cy="167040"/>
          </a:xfrm>
        </p:grpSpPr>
        <p:sp>
          <p:nvSpPr>
            <p:cNvPr id="180" name=""/>
            <p:cNvSpPr/>
            <p:nvPr/>
          </p:nvSpPr>
          <p:spPr>
            <a:xfrm flipV="1">
              <a:off x="2414520" y="4016160"/>
              <a:ext cx="192600" cy="1224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4520" y="4138920"/>
              <a:ext cx="226800" cy="180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20775600">
              <a:off x="2547360" y="4062960"/>
              <a:ext cx="69840" cy="69840"/>
            </a:xfrm>
            <a:prstGeom prst="ellipse">
              <a:avLst/>
            </a:prstGeom>
            <a:solidFill>
              <a:srgbClr val="54547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20775600">
              <a:off x="2470320" y="4044240"/>
              <a:ext cx="139320" cy="12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78" y="2312"/>
                  </a:moveTo>
                  <a:arcTo wR="10800" hR="10800" stAng="-3108195" swAng="6539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78" y="2312"/>
                  </a:moveTo>
                  <a:arcTo wR="10800" hR="10800" stAng="-3108195" swAng="6539673"/>
                </a:path>
              </a:pathLst>
            </a:custGeom>
            <a:noFill/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Picking – Our Approach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convex objects: point-in-segment test using OpenGL’s selection mode. Both fast (almost totally done in hw) and application-independent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268360" y="3919680"/>
            <a:ext cx="790200" cy="1655640"/>
            <a:chOff x="2268360" y="3919680"/>
            <a:chExt cx="790200" cy="1655640"/>
          </a:xfrm>
        </p:grpSpPr>
        <p:sp>
          <p:nvSpPr>
            <p:cNvPr id="187" name=""/>
            <p:cNvSpPr/>
            <p:nvPr/>
          </p:nvSpPr>
          <p:spPr>
            <a:xfrm rot="5400000">
              <a:off x="1835640" y="4353120"/>
              <a:ext cx="1655640" cy="788760"/>
            </a:xfrm>
            <a:prstGeom prst="parallelogram">
              <a:avLst>
                <a:gd name="adj" fmla="val 87081"/>
              </a:avLst>
            </a:prstGeom>
            <a:solidFill>
              <a:srgbClr val="ffffff"/>
            </a:solidFill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466360" y="4097880"/>
              <a:ext cx="0" cy="96012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64360" y="4275360"/>
              <a:ext cx="0" cy="96012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61280" y="4440600"/>
              <a:ext cx="0" cy="9558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7360" y="4013280"/>
              <a:ext cx="0" cy="961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65360" y="4179960"/>
              <a:ext cx="0" cy="96768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62280" y="4353120"/>
              <a:ext cx="0" cy="96804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60280" y="4526640"/>
              <a:ext cx="0" cy="96768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2268360" y="4710240"/>
              <a:ext cx="789840" cy="682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269080" y="4529160"/>
              <a:ext cx="789480" cy="682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>
              <a:off x="2269080" y="4347720"/>
              <a:ext cx="789480" cy="68220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2269080" y="4140720"/>
              <a:ext cx="789480" cy="682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490920" y="3703680"/>
            <a:ext cx="576360" cy="1366560"/>
            <a:chOff x="3490920" y="3703680"/>
            <a:chExt cx="576360" cy="1366560"/>
          </a:xfrm>
        </p:grpSpPr>
        <p:sp>
          <p:nvSpPr>
            <p:cNvPr id="200" name=""/>
            <p:cNvSpPr/>
            <p:nvPr/>
          </p:nvSpPr>
          <p:spPr>
            <a:xfrm>
              <a:off x="3490920" y="4782960"/>
              <a:ext cx="576360" cy="287280"/>
            </a:xfrm>
            <a:prstGeom prst="ellipse">
              <a:avLst/>
            </a:prstGeom>
            <a:solidFill>
              <a:srgbClr val="9797b7"/>
            </a:solidFill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90920" y="3703680"/>
              <a:ext cx="576360" cy="1223640"/>
            </a:xfrm>
            <a:prstGeom prst="triangle">
              <a:avLst>
                <a:gd name="adj" fmla="val 50000"/>
              </a:avLst>
            </a:prstGeom>
            <a:solidFill>
              <a:srgbClr val="9797b7"/>
            </a:solidFill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57880" y="4927320"/>
              <a:ext cx="442800" cy="0"/>
            </a:xfrm>
            <a:prstGeom prst="line">
              <a:avLst/>
            </a:prstGeom>
            <a:ln w="38160">
              <a:solidFill>
                <a:srgbClr val="9797b7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498920" y="3774960"/>
            <a:ext cx="792360" cy="792360"/>
          </a:xfrm>
          <a:prstGeom prst="ellipse">
            <a:avLst/>
          </a:prstGeom>
          <a:solidFill>
            <a:srgbClr val="9797b7"/>
          </a:solidFill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8640" y="4474800"/>
            <a:ext cx="638280" cy="1573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90560" y="4745160"/>
            <a:ext cx="917640" cy="22536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957480" y="4231800"/>
            <a:ext cx="736920" cy="1825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291280" y="3974760"/>
            <a:ext cx="433080" cy="106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619520" y="4024440"/>
            <a:ext cx="289080" cy="322200"/>
            <a:chOff x="4619520" y="4024440"/>
            <a:chExt cx="289080" cy="322200"/>
          </a:xfrm>
        </p:grpSpPr>
        <p:sp>
          <p:nvSpPr>
            <p:cNvPr id="209" name=""/>
            <p:cNvSpPr/>
            <p:nvPr/>
          </p:nvSpPr>
          <p:spPr>
            <a:xfrm flipH="1">
              <a:off x="4619520" y="4202280"/>
              <a:ext cx="144720" cy="144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64240" y="4202280"/>
              <a:ext cx="144360" cy="144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764240" y="4024440"/>
              <a:ext cx="0" cy="177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30760" y="4173840"/>
              <a:ext cx="69840" cy="6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667400" y="4014720"/>
            <a:ext cx="156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3d cursor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42920" y="428004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Picking ray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0200" y="514368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Projection plan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322360" y="4941720"/>
            <a:ext cx="4032360" cy="9907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08560" y="5373720"/>
            <a:ext cx="69840" cy="69840"/>
          </a:xfrm>
          <a:prstGeom prst="ellipse">
            <a:avLst/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30680" y="5319720"/>
            <a:ext cx="69840" cy="69840"/>
          </a:xfrm>
          <a:prstGeom prst="ellipse">
            <a:avLst/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551560" y="5092560"/>
            <a:ext cx="69840" cy="69840"/>
          </a:xfrm>
          <a:prstGeom prst="ellipse">
            <a:avLst/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886360" y="5008680"/>
            <a:ext cx="69840" cy="69840"/>
          </a:xfrm>
          <a:prstGeom prst="ellipse">
            <a:avLst/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65680" y="5064120"/>
            <a:ext cx="69840" cy="698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35320" y="5359320"/>
            <a:ext cx="71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z</a:t>
            </a:r>
            <a:r>
              <a:rPr b="1" lang="en-US" sz="1600" spc="-1" strike="noStrike" baseline="-25000">
                <a:solidFill>
                  <a:srgbClr val="545472"/>
                </a:solidFill>
                <a:latin typeface="Tahoma"/>
              </a:rPr>
              <a:t>min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00720" y="5281560"/>
            <a:ext cx="792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z</a:t>
            </a:r>
            <a:r>
              <a:rPr b="1" lang="en-US" sz="1600" spc="-1" strike="noStrike" baseline="-25000">
                <a:solidFill>
                  <a:srgbClr val="545472"/>
                </a:solidFill>
                <a:latin typeface="Tahoma"/>
              </a:rPr>
              <a:t>max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5097600"/>
            <a:ext cx="71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z</a:t>
            </a:r>
            <a:r>
              <a:rPr b="1" lang="en-US" sz="1600" spc="-1" strike="noStrike" baseline="-25000">
                <a:solidFill>
                  <a:srgbClr val="545472"/>
                </a:solidFill>
                <a:latin typeface="Tahoma"/>
              </a:rPr>
              <a:t>min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96000" y="4941720"/>
            <a:ext cx="719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z</a:t>
            </a:r>
            <a:r>
              <a:rPr b="1" lang="en-US" sz="1600" spc="-1" strike="noStrike" baseline="-25000">
                <a:solidFill>
                  <a:srgbClr val="545472"/>
                </a:solidFill>
                <a:latin typeface="Tahoma"/>
              </a:rPr>
              <a:t>max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3640" y="4797360"/>
            <a:ext cx="201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Bounding z values returned by the OpenGL’s selection mod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46720" y="5684760"/>
            <a:ext cx="1008000" cy="73080"/>
          </a:xfrm>
          <a:custGeom>
            <a:avLst/>
            <a:gdLst/>
            <a:ahLst/>
            <a:rect l="l" t="t" r="r" b="b"/>
            <a:pathLst>
              <a:path w="590" h="97">
                <a:moveTo>
                  <a:pt x="590" y="45"/>
                </a:moveTo>
                <a:cubicBezTo>
                  <a:pt x="480" y="71"/>
                  <a:pt x="370" y="97"/>
                  <a:pt x="272" y="90"/>
                </a:cubicBezTo>
                <a:cubicBezTo>
                  <a:pt x="174" y="83"/>
                  <a:pt x="87" y="41"/>
                  <a:pt x="0" y="0"/>
                </a:cubicBezTo>
              </a:path>
            </a:pathLst>
          </a:custGeom>
          <a:noFill/>
          <a:ln w="1908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4542480" y="4686480"/>
            <a:ext cx="360360" cy="434880"/>
          </a:xfrm>
          <a:prstGeom prst="cube">
            <a:avLst>
              <a:gd name="adj" fmla="val 37500"/>
            </a:avLst>
          </a:prstGeom>
          <a:solidFill>
            <a:srgbClr val="ffffff"/>
          </a:solidFill>
          <a:ln w="1908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916360" y="3859200"/>
            <a:ext cx="576000" cy="576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094280" y="5084640"/>
            <a:ext cx="261720" cy="233640"/>
          </a:xfrm>
          <a:prstGeom prst="line">
            <a:avLst/>
          </a:prstGeom>
          <a:ln w="19080">
            <a:solidFill>
              <a:srgbClr val="54547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09920" y="5041800"/>
            <a:ext cx="262080" cy="233640"/>
          </a:xfrm>
          <a:prstGeom prst="line">
            <a:avLst/>
          </a:prstGeom>
          <a:ln w="19080">
            <a:solidFill>
              <a:srgbClr val="54547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35640" y="4621320"/>
            <a:ext cx="360360" cy="320400"/>
          </a:xfrm>
          <a:prstGeom prst="line">
            <a:avLst/>
          </a:prstGeom>
          <a:ln w="19080">
            <a:solidFill>
              <a:srgbClr val="54547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210280" y="4651200"/>
            <a:ext cx="366480" cy="327240"/>
          </a:xfrm>
          <a:prstGeom prst="line">
            <a:avLst/>
          </a:prstGeom>
          <a:ln w="1908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8400" y="4680000"/>
            <a:ext cx="360360" cy="320760"/>
          </a:xfrm>
          <a:prstGeom prst="line">
            <a:avLst/>
          </a:prstGeom>
          <a:ln w="19080">
            <a:solidFill>
              <a:srgbClr val="54547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3D Picking Algorithm - Convex Obj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24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45472"/>
                </a:solidFill>
                <a:latin typeface="Tahoma"/>
              </a:rPr>
              <a:t>Set a parallel viewing volume constrained to the picking ray.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624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45472"/>
                </a:solidFill>
                <a:latin typeface="Tahoma"/>
              </a:rPr>
              <a:t>Compute the </a:t>
            </a:r>
            <a:r>
              <a:rPr b="0" i="1" lang="en-US" sz="2500" spc="-1" strike="noStrike">
                <a:solidFill>
                  <a:srgbClr val="545472"/>
                </a:solidFill>
                <a:latin typeface="Tahoma"/>
              </a:rPr>
              <a:t>hit list</a:t>
            </a:r>
            <a:r>
              <a:rPr b="0" lang="en-US" sz="2500" spc="-1" strike="noStrike">
                <a:solidFill>
                  <a:srgbClr val="545472"/>
                </a:solidFill>
                <a:latin typeface="Tahoma"/>
              </a:rPr>
              <a:t> using the OpenGL’s selection mode.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624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45472"/>
                </a:solidFill>
                <a:latin typeface="Tahoma"/>
              </a:rPr>
              <a:t>Convert the 3D cursor z-value to window coordinates (since the z-values of the hit list are also in window coordinates).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  <a:p>
            <a:pPr marL="533520" indent="-533520">
              <a:spcBef>
                <a:spcPts val="624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45472"/>
                </a:solidFill>
                <a:latin typeface="Tahoma"/>
              </a:rPr>
              <a:t>For each object in the hit list, compare the cursor’s z-value with the object’s minimum and maximum depth returned by the hit record.</a:t>
            </a:r>
            <a:endParaRPr b="0" lang="en-US" sz="2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68840" y="3284640"/>
            <a:ext cx="1776240" cy="1739880"/>
          </a:xfrm>
          <a:prstGeom prst="donut">
            <a:avLst>
              <a:gd name="adj" fmla="val 29361"/>
            </a:avLst>
          </a:prstGeom>
          <a:noFill/>
          <a:ln w="1908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3D Picking – Concave Object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e use a stencil buffer to store the parity counting of object’s faces as they intersect the picking ra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5796000" y="3716280"/>
            <a:ext cx="156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Cursor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3506760"/>
            <a:ext cx="10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ahoma"/>
              </a:rPr>
              <a:t>Picking ray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916360" y="4157280"/>
            <a:ext cx="3311280" cy="32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32480" y="4121280"/>
            <a:ext cx="69840" cy="6984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62400" y="4122720"/>
            <a:ext cx="69840" cy="6984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83120" y="4121280"/>
            <a:ext cx="69840" cy="6984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2340000" y="4014720"/>
            <a:ext cx="431280" cy="288720"/>
            <a:chOff x="2340000" y="4014720"/>
            <a:chExt cx="431280" cy="288720"/>
          </a:xfrm>
        </p:grpSpPr>
        <p:sp>
          <p:nvSpPr>
            <p:cNvPr id="247" name=""/>
            <p:cNvSpPr/>
            <p:nvPr/>
          </p:nvSpPr>
          <p:spPr>
            <a:xfrm flipV="1">
              <a:off x="2340000" y="4014720"/>
              <a:ext cx="431280" cy="1461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40000" y="4160880"/>
              <a:ext cx="431280" cy="142560"/>
            </a:xfrm>
            <a:prstGeom prst="line">
              <a:avLst/>
            </a:prstGeom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15040" y="4091040"/>
              <a:ext cx="139320" cy="139680"/>
            </a:xfrm>
            <a:prstGeom prst="ellipse">
              <a:avLst/>
            </a:prstGeom>
            <a:solidFill>
              <a:srgbClr val="54547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59880" y="4032720"/>
              <a:ext cx="278280" cy="24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78" y="2312"/>
                  </a:moveTo>
                  <a:arcTo wR="10800" hR="10800" stAng="-3108195" swAng="65396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78" y="2312"/>
                  </a:moveTo>
                  <a:arcTo wR="10800" hR="10800" stAng="-3108195" swAng="6539673"/>
                </a:path>
              </a:pathLst>
            </a:custGeom>
            <a:noFill/>
            <a:ln w="1908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241880" y="4292640"/>
            <a:ext cx="358560" cy="720720"/>
          </a:xfrm>
          <a:prstGeom prst="line">
            <a:avLst/>
          </a:prstGeom>
          <a:ln cap="rnd" w="1908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241880" y="4292640"/>
            <a:ext cx="834840" cy="735120"/>
          </a:xfrm>
          <a:prstGeom prst="line">
            <a:avLst/>
          </a:prstGeom>
          <a:ln cap="rnd" w="1908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284720" y="4292280"/>
            <a:ext cx="1511280" cy="718920"/>
          </a:xfrm>
          <a:prstGeom prst="line">
            <a:avLst/>
          </a:prstGeom>
          <a:ln cap="rnd" w="1908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5157720"/>
            <a:ext cx="532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Three intersection points, or three overdraws of pixels in the stencil buffer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Since it is odd, the cursor is inside the object.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29440" y="299232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Closed concave object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940360" y="4154040"/>
            <a:ext cx="1584360" cy="3240"/>
          </a:xfrm>
          <a:prstGeom prst="line">
            <a:avLst/>
          </a:prstGeom>
          <a:ln w="1260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045120" y="3975120"/>
            <a:ext cx="289080" cy="322200"/>
            <a:chOff x="6045120" y="3975120"/>
            <a:chExt cx="289080" cy="322200"/>
          </a:xfrm>
        </p:grpSpPr>
        <p:sp>
          <p:nvSpPr>
            <p:cNvPr id="258" name=""/>
            <p:cNvSpPr/>
            <p:nvPr/>
          </p:nvSpPr>
          <p:spPr>
            <a:xfrm flipH="1">
              <a:off x="6045120" y="4152960"/>
              <a:ext cx="144720" cy="144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89840" y="4152960"/>
              <a:ext cx="144360" cy="144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6189840" y="3975120"/>
              <a:ext cx="0" cy="177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56360" y="4124520"/>
              <a:ext cx="69840" cy="698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020000" y="417204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45472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63640" y="366876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Eye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6:01:48Z</dcterms:created>
  <dc:creator>Wu, Shin-Ting, Marcel Abrantes, Daniel Tost, Harlen C. Batagelo</dc:creator>
  <dc:description/>
  <dc:language>en-US</dc:language>
  <cp:lastModifiedBy>Harlen Costa Batagelo</cp:lastModifiedBy>
  <dcterms:modified xsi:type="dcterms:W3CDTF">2003-10-30T14:22:29Z</dcterms:modified>
  <cp:revision>218</cp:revision>
  <dc:subject/>
  <dc:title>Picking and Snapping for 3D Input Devices</dc:title>
</cp:coreProperties>
</file>