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208163" cy="35207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F9D-7419-46D9-90FA-75B309CD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2448720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0440" y="20351520"/>
            <a:ext cx="2448720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04F-3CDD-4A53-9584-DE53EFAA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90788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0440" y="2035152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907880" y="2035152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977-741C-4041-B0F1-4130A264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39720" y="821484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19000" y="821484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0440" y="2035152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39720" y="2035152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919000" y="2035152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A42-8F88-4DB5-8663-552C1F0F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0440" y="8214840"/>
            <a:ext cx="24487200" cy="232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DFF-A5EE-4170-BF47-680CAF09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2448720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32C-858C-442E-A59E-7E516265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1194948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907880" y="8214840"/>
            <a:ext cx="1194948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7B8-9DC0-47F5-9A15-B86AEA3D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424-5D18-4ECC-9B56-89DE052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0440" y="1409400"/>
            <a:ext cx="24487200" cy="272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CCE-244E-4977-8F78-B649ABB8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907880" y="8214840"/>
            <a:ext cx="1194948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0440" y="2035152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F44-25AE-4072-B264-6718663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1194948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90788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907880" y="2035152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DB1-069F-4245-B004-0365F688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90788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0440" y="20351520"/>
            <a:ext cx="2448720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BEA-3147-4E3A-9C4E-614A69AB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0440" y="8214840"/>
            <a:ext cx="2448720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marL="1338120" indent="-133812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1" marL="2897280" indent="-111456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2" marL="4457880" indent="-89064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3" marL="6242040" indent="-89208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4" marL="8024760" indent="-89208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5" marL="8024760" indent="-89208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6" marL="8024760" indent="-89208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60080" y="32062320"/>
            <a:ext cx="6348600" cy="244476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Autofit/>
          </a:bodyPr>
          <a:lstStyle>
            <a:lvl1pPr indent="0">
              <a:buNone/>
              <a:tabLst>
                <a:tab algn="l" pos="0"/>
                <a:tab algn="l" pos="3567240"/>
                <a:tab algn="l" pos="7134120"/>
                <a:tab algn="l" pos="10701360"/>
              </a:tabLst>
              <a:defRPr b="0" lang="en-US" sz="5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296280" y="32062320"/>
            <a:ext cx="8615520" cy="244476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Autofit/>
          </a:bodyPr>
          <a:lstStyle>
            <a:lvl1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  <a:defRPr b="0" lang="en-US" sz="5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499400" y="32062320"/>
            <a:ext cx="6348240" cy="244476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Autofit/>
          </a:bodyPr>
          <a:lstStyle>
            <a:lvl1pPr indent="0" algn="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  <a:defRPr b="0" lang="en-US" sz="5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fld id="{41E071E8-2BE6-42FE-B95D-BFCD379896A7}" type="slidenum">
              <a:rPr b="0" lang="en-US" sz="5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22360" y="19162800"/>
            <a:ext cx="9717120" cy="971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17520"/>
            <a:ext cx="27208080" cy="26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00"/>
                </a:solidFill>
                <a:latin typeface="Arial"/>
                <a:ea typeface="Arial"/>
              </a:rPr>
              <a:t>VisciPower:</a:t>
            </a:r>
            <a:r>
              <a:rPr b="1" i="1" lang="pt-BR" sz="3900" spc="-1" strike="noStrike">
                <a:solidFill>
                  <a:srgbClr val="000000"/>
                </a:solidFill>
                <a:latin typeface="Arial"/>
                <a:ea typeface="Arial"/>
              </a:rPr>
              <a:t> Um Ambiente de Interação com os Dados Elétricos Georreferenciad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aulo Meira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ajiv Andrade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rientadora: Profa. Wu Shin-Ting</a:t>
            </a:r>
            <a:br>
              <a:rPr sz="3000"/>
            </a:b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CA – Faculdade de Engenharia Elétrica e de Computação - Universidade Estadual de Camp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{meira,rajiv,ting}@dca.fee.unicamp.b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733920"/>
            <a:ext cx="108964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Introduçã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 energia elétrica consumida no Brasil é de origem predominantemente hidráulica. Gerada nas usinas hidrelétricas, ela é transmitida por longas linhas de transmissão até os centros de consumo. Para reduzir perdas, o nível de tensão da energia é elevada em subestações antes da transmissão e nas proximidades dos centros de consumo ele é reduzido, também em subestações, até o nível de consumo residencial (127V ou 220V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341160" y="16884720"/>
            <a:ext cx="27208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76560" y="7848720"/>
            <a:ext cx="8277120" cy="47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12573000"/>
            <a:ext cx="107442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Mais de 96% da capacidade de produção e transmissão de eletricidade do nosso país faz parte do Sistema Interligado Nacional (SIN) com múltiplos proprietários. A coordenação e controle da operação das instalações deste sistema é de responsabilidade do Operador Nacional de Sistema Elétrico (ONS), criado em 26 de agosto de 1998, sob a fiscalização e regulação da Agência Nacional de Energia Elétrica (Aneel).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ara facilitar o acesso às informações atualizadas do SIN, o ONS está desenvolvendo um sistema de Informações Geográficas Cadastrais do SIN (SINDAT), integrando num mesmo ambiente os dados geográficos (mapas digitais) e a topologia da rede de transmissão. Este sistema está sendo desenvolvido com base na tecnologia de Sistemas de Informações Geográficas (GIS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9235240"/>
            <a:ext cx="107442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gração dos Dados Elétricos aos Geográfic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O acesso fácil e interativo dos dados da topologia da rede de operação do ONS abre novas perspectivas para as pesquisas na área de Planejamento e Controle de Sistemas de Energia Elétrica. Se integrarmos à topologia da rede as informações elétricas, utilizadas para análise e simulações de uma rede elétrica, podemos desenvolver uma interface gráfica e amigável, com múltiplas possibilidades de visualização das correlações entre os dados do sistema. Isso possibilitará novas interpretações dos problemas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44600" y="3946680"/>
            <a:ext cx="1150632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envolver um ambiente de interação com os dados elétricos contextualizados geograficam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44600" y="11201400"/>
            <a:ext cx="11430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 ambiente é provido de uma interface gráfica através da qual os usuários podem interagir com os dados elétricos contextualizados geograficamente. A camada intermediária é configurável através de acoplamento de distintos simuladores e/ou de técnicas de mapeamento de dados numéricos para dados gráficos, assegurando a legibilidade e a fácil compreensão dos dados, assim como a sua alteração quando necessár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944600" y="14843160"/>
            <a:ext cx="1150632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Protótip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 protótipo, VisciPower, está sendo desenvolvido na linguagem de programação C++, utilizando-se ferramentas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pen-source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m ambiente Linux. Destas ferramentas, as principais s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wxWidget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: biblioteca responsável pela interface gráfica e suas interações em gera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penGL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: biblioteca que possibilita a renderização de imagens de alta qualidade, utilizando aceleração por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quando disponíve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stgreSQL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: sistema de banco de dados relaciona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stGI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: extensão que possibilita ao PostgreSQL o tratamento de dados georreferenci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055320" y="16427520"/>
            <a:ext cx="2720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s1" descr=""/>
          <p:cNvPicPr/>
          <p:nvPr/>
        </p:nvPicPr>
        <p:blipFill>
          <a:blip r:embed="rId3"/>
          <a:stretch/>
        </p:blipFill>
        <p:spPr>
          <a:xfrm>
            <a:off x="14236560" y="20723400"/>
            <a:ext cx="10833120" cy="823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944600" y="29168640"/>
            <a:ext cx="11430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través do VisciPower, podemos analisar os parâmetros elétricos dos componentes da rede elétrica em questão. É possível aplicar filtros por nível de tensão, por exemplo, o que possibilita a melhor análise de subre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 protótipo também inclui resolução de fluxo de carga linearizado como forma de validar o modelo adotado. As linhas são coloridas de acordo com o nível de carregamento resultante da simulaç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249520" y="32842080"/>
            <a:ext cx="111297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Mais informações nos </a:t>
            </a:r>
            <a:r>
              <a:rPr b="1" i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sites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http://www.dca.fee.unicamp.br/projects/vdx/andrade</a:t>
            </a:r>
            <a:br>
              <a:rPr sz="2100"/>
            </a:br>
            <a:r>
              <a:rPr b="0" i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http://www.dca.fee.unicamp.br/projects/vdx/mei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20920" y="5867280"/>
            <a:ext cx="1135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Arquitetura do Ambient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8741680"/>
            <a:ext cx="10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ONS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ons.org.br/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08040" y="6730920"/>
            <a:ext cx="11088720" cy="44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249520" y="7099200"/>
            <a:ext cx="15922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dos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38360" y="7099200"/>
            <a:ext cx="67960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395840" y="7839000"/>
            <a:ext cx="1430280" cy="25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enciamento dos d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721440" y="7823160"/>
            <a:ext cx="14302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enciamento do mape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047040" y="7839000"/>
            <a:ext cx="1430280" cy="25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enciamento do diálogo (Interf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0145240" y="8367840"/>
            <a:ext cx="901800" cy="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826120" y="8356320"/>
            <a:ext cx="901440" cy="1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7837280" y="10263240"/>
            <a:ext cx="3220920" cy="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477320" y="8955000"/>
            <a:ext cx="703440" cy="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11160" y="7910640"/>
            <a:ext cx="1071720" cy="11062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orrefe-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16200" y="9321840"/>
            <a:ext cx="1073160" cy="11080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ét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8200" y="8550360"/>
            <a:ext cx="911160" cy="3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82880" y="9979200"/>
            <a:ext cx="91296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727560" y="9026640"/>
            <a:ext cx="1430640" cy="11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0145240" y="9480600"/>
            <a:ext cx="901800" cy="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826120" y="9529920"/>
            <a:ext cx="890640" cy="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3180760" y="8170920"/>
            <a:ext cx="18000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2:18:52Z</dcterms:created>
  <dc:creator>Registered Owner</dc:creator>
  <dc:description/>
  <dc:language>en-US</dc:language>
  <cp:lastModifiedBy>Windows XP</cp:lastModifiedBy>
  <dcterms:modified xsi:type="dcterms:W3CDTF">2006-08-22T17:59:02Z</dcterms:modified>
  <cp:revision>25</cp:revision>
  <dc:subject/>
  <dc:title>Slide 1</dc:title>
</cp:coreProperties>
</file>