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18864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10256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25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01080" y="646740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B382-74A1-4E33-B027-CEC8B3D42385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042920" y="6481440"/>
            <a:ext cx="684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onologia do Hardware Gráfico 3D – UNICAMP, FEEC, D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2101680"/>
            <a:ext cx="8101080" cy="1511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09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ronologia do Hardware Gráfico 3D</a:t>
            </a:r>
            <a:br>
              <a:rPr sz="2800"/>
            </a:b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os gráficos em wireframe aos sh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975120"/>
            <a:ext cx="727236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Harlen Batagelo</a:t>
            </a:r>
            <a:br>
              <a:rPr sz="2400"/>
            </a:br>
            <a:br>
              <a:rPr sz="1800"/>
            </a:b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UNICAMP - Universidade Estadual de Campinas</a:t>
            </a:r>
            <a:br>
              <a:rPr sz="1600"/>
            </a:b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FEEC – Faculdade de Engenharia Elétrica e de Computação</a:t>
            </a:r>
            <a:br>
              <a:rPr sz="1600"/>
            </a:b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DCA – Departamento de Computação e Automação Industrial</a:t>
            </a:r>
            <a:br>
              <a:rPr sz="1600"/>
            </a:br>
            <a:br>
              <a:rPr sz="1800"/>
            </a:b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Junho d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58920" y="639720"/>
          <a:ext cx="741672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639720"/>
                    <a:ext cx="7416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56280" y="3125880"/>
            <a:ext cx="1727280" cy="7189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1200" y="312588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312408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1676520"/>
            <a:ext cx="75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ferentes rumos de evolução entre sistemas SGI (Silicon Graphics, Inc.) e P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G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do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3320" y="320040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amp; Ilumin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7880" y="32925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mbre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17920" y="32925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ur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03440" y="3336840"/>
            <a:ext cx="27648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07080" y="334152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7840" y="4878360"/>
            <a:ext cx="1726920" cy="7192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2760" y="4878360"/>
            <a:ext cx="1800000" cy="7192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87692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11640" y="504504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mbre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0760" y="504504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ur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59880" y="494496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amp; Ilumin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75000" y="5089680"/>
            <a:ext cx="27612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78640" y="5094360"/>
            <a:ext cx="27612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07200" y="39481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3-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5160" y="39481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7-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45720" y="39481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2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96920" y="5668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45320" y="56689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6-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17280" y="56689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8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39080" y="334476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99480" y="509256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10520" y="4925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15200" y="3171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564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mpo médio de duplicação do desempenho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18 meses para CPUs (Lei de Moore).                        ~60x em 10 anos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Até 6 meses para GPUs. ~1000x em 10 anos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ução no custo e dimensões do hard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1992: SGI RealityEngine, $1 milhão, do tamanho de uma geladeira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2001: NVIDIA GeForce, $100, cabe num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slot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de PC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ém do desempenho, novos recursos (como já vimo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do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lhor qualidade da imagem 3D com o advento de hardware programá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seguir: comparação da qualidade de imagem de uma NVIDIA Riva 128 (1997) com uma GeForce FX (200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do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17640" y="3789360"/>
          <a:ext cx="196236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3789360"/>
                    <a:ext cx="196236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330200" y="52354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VIDIA Riva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nVidia's GeForceFX 5900 Ultra "/>
          <p:cNvPicPr/>
          <p:nvPr/>
        </p:nvPicPr>
        <p:blipFill>
          <a:blip r:embed="rId3"/>
          <a:stretch/>
        </p:blipFill>
        <p:spPr>
          <a:xfrm>
            <a:off x="5181480" y="3581280"/>
            <a:ext cx="2232000" cy="160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43280" y="52308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Force FX 5900 Ul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dade da Imagem (Riva 12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638360" y="1417680"/>
            <a:ext cx="6318360" cy="5035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69000" y="1568520"/>
            <a:ext cx="29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uras de baixa resol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65760" y="2330280"/>
            <a:ext cx="297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enas iluminaçã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71160" y="1949400"/>
            <a:ext cx="26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ometria pouco refi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25480" y="616572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MotoRacer, D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7632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 da Imagem (GeForce F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80960" y="1378080"/>
            <a:ext cx="6696360" cy="5022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195160" y="449568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uras de alta resol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7600" y="483228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lhares de triâng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90120" y="5181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uminação H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5800" y="553068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flexão, ref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7240" y="58672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mbras em tempo 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0160" y="6137280"/>
            <a:ext cx="183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3DMark03, Futuremark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is processadores programá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De vértices e frag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 programas são chamados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hader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– termo que surgiu com 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RenderMa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da Pix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ertex shader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ragment shader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ixel shader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, de acordo com o processador que executa o sh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programação de shaders substitui apenas uma parte das tarefas do fluxo visualiz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de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09760" y="4981680"/>
          <a:ext cx="697212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4981680"/>
                    <a:ext cx="69721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de fluxo de visualização do hardware gráfico programáv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de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6880" y="2787480"/>
            <a:ext cx="1079640" cy="625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96880" y="2836800"/>
            <a:ext cx="108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dos 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é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700000">
            <a:off x="2655720" y="301428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96880" y="3629160"/>
            <a:ext cx="1079640" cy="6490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96880" y="3701880"/>
            <a:ext cx="10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dos 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imi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43360" y="3281400"/>
            <a:ext cx="1145880" cy="490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35440" y="33670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Arial"/>
              </a:rPr>
              <a:t>Tess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8900000">
            <a:off x="2647440" y="3739680"/>
            <a:ext cx="27648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3600" y="3629160"/>
            <a:ext cx="1217880" cy="64764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60760" y="3700440"/>
            <a:ext cx="127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ss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vé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3600" y="2766960"/>
            <a:ext cx="1217880" cy="64764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60760" y="2838600"/>
            <a:ext cx="127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uxo de função fi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700000">
            <a:off x="4143240" y="3766680"/>
            <a:ext cx="27648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8900000">
            <a:off x="4151160" y="2982600"/>
            <a:ext cx="27648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700000">
            <a:off x="5843520" y="301752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8900000">
            <a:off x="5864040" y="374292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00640" y="2779560"/>
            <a:ext cx="2187720" cy="122580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27640" y="2779560"/>
            <a:ext cx="215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Re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Arial"/>
              </a:rPr>
              <a:t>Back-face cu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ivisão por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ap. na janela de vis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Rasteriz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64240" y="5013360"/>
            <a:ext cx="1439640" cy="6253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48040" y="506268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Neb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Arial"/>
              </a:rPr>
              <a:t>Alpha bl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4896000"/>
            <a:ext cx="1325520" cy="8632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4480" y="49528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Arial"/>
              </a:rPr>
              <a:t>Alpha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Arial"/>
              </a:rPr>
              <a:t>Depth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Arial"/>
              </a:rPr>
              <a:t>Stencil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7243560" y="4098960"/>
            <a:ext cx="27612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7560" y="4438800"/>
            <a:ext cx="1403280" cy="64764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67560" y="451008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ss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frag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67560" y="5518080"/>
            <a:ext cx="1403280" cy="64764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67560" y="558972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mostrador de tex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 rot="16200000">
            <a:off x="7227720" y="514872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95600" y="5186160"/>
            <a:ext cx="27612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2584080" y="5182920"/>
            <a:ext cx="27612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33600" y="5035680"/>
            <a:ext cx="928440" cy="6253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34400" y="5084640"/>
            <a:ext cx="71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rot="18900000">
            <a:off x="6308640" y="506232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774360" y="331164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924120" y="51832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ertex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Programa executado para cada vértice. Não pode criar nem destruir vért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ra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Um vértice (normalmente no espaço do objeto). Pode conter informações tais como: normal, cor, coordenadas de textura, tamanho do ponto, etc. Obrigatoriamente deve conter uma pos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í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Vértice em espaço homogêneo de rec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de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que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ertex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ode faz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Transformação de vértices (mudança de base, rotação, translação, etc), normalização, cálculo de iluminação, geração e modificação de coordenadas de textura, recorte definido pelo usuário (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user-defined clipping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que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ertex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não pode faz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ontagem de primitivas,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frustum culling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back-face culling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(exceto em ps3.0), amostragem de texturas (exceto em ps3.0), divisão perspectiva, mapeamento na janela de vi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de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03840" y="3586320"/>
            <a:ext cx="1439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agrama do ambiente de execução de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ertex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de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8900000">
            <a:off x="5473800" y="3571560"/>
            <a:ext cx="27612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3457440" y="3916080"/>
            <a:ext cx="27648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2120" y="272880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13480" y="2778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6030000" y="34470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76560" y="3627360"/>
            <a:ext cx="1297080" cy="12970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1760" y="3905280"/>
            <a:ext cx="105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itm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26160" y="2728800"/>
            <a:ext cx="66168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02480" y="27781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280" y="26827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3240" y="234792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de Ent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3880" y="3203640"/>
            <a:ext cx="27612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rot="10800000">
            <a:off x="3457440" y="4275000"/>
            <a:ext cx="27648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496760" y="5087880"/>
            <a:ext cx="27648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rot="18900000">
            <a:off x="5481000" y="3863880"/>
            <a:ext cx="27648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rot="2700000">
            <a:off x="5473440" y="486360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83200" y="380988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9880" y="385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78520" y="301608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59880" y="306540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720" y="335592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de Endereç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6030000" y="510444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83200" y="546732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59880" y="5516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78520" y="467352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59880" y="47228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32720" y="501156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de 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2683800" y="402336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37000" y="4386240"/>
            <a:ext cx="66168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28080" y="44355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31960" y="359244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27720" y="364176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16000" y="393228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Tempor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27440" y="547524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4120" y="55245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21120" y="547524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93480" y="5524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2600" y="542916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1800" y="600408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de Saí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3840" y="75960"/>
            <a:ext cx="79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ção da apresent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olução do hardware gráfico nos últimos 20 ano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Sistemas compatíveis com OpenGL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Análise de desempenho, custo e recursos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rdware gráfico programáve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ntegração com o fluxo de visualização tradicional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ntrodução à programação de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shaders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çã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hader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m linguagens de baixo nível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Especificações: ps1.0, 1.1, 1.2, 1.3, 1.4, 2.0, 2.x, 3.0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çã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hader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m linguagens de alto níve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HLSL, Cg, GLSL e outras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ragment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Programa executado para cada fragmento (não é exatamente um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pixel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, mas um ponto em coordenadas da janela produzido pelo rasteriz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ra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Um fragmento interpolado segundo os modelos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flat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ou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Gouraud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. Inclui as informações (também interpoladas) da saída do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vertex shader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í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A cor (RGBA) e possivelmente a profundidade do fragmento proces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de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que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ragment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ode faz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Amostragem e mistura de texturas,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bump mapping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environment mapping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, descarte de fragmentos, cálculo de neblina e cálculo do modelo de ilumin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que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ragment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não pode faz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udar o modelo de interpolação, mudar a coordenada do fragmento, realizar teste alfa, teste de profundidade, teste do buffer estêncil,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dithering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de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agrama do ambiente de execução de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ragment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de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97320" y="3587760"/>
            <a:ext cx="1440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900000">
            <a:off x="5866920" y="3573000"/>
            <a:ext cx="27648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25960" y="2730600"/>
            <a:ext cx="662040" cy="4093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06960" y="2779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6423840" y="344844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70400" y="3629160"/>
            <a:ext cx="1297080" cy="12967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85600" y="3906720"/>
            <a:ext cx="105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itm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9640" y="2730600"/>
            <a:ext cx="662040" cy="4093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96320" y="27795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21120" y="26845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7080" y="234936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de Ent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887720" y="3205080"/>
            <a:ext cx="27648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rot="10800000">
            <a:off x="3968640" y="4149360"/>
            <a:ext cx="27648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4890960" y="508932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rot="18900000">
            <a:off x="5875200" y="386532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rot="2700000">
            <a:off x="5867280" y="4865400"/>
            <a:ext cx="27648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77040" y="3811680"/>
            <a:ext cx="662040" cy="4093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74240" y="386064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3017880"/>
            <a:ext cx="66168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4240" y="3067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94560" y="242100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Tempor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6423840" y="51058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7040" y="546876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53720" y="5518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675320"/>
            <a:ext cx="661680" cy="4093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53360" y="47242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26200" y="501336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de 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077280" y="409644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62200" y="4459320"/>
            <a:ext cx="136692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87760" y="450864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mostrado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2200" y="3665520"/>
            <a:ext cx="136692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87400" y="371484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mostrador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09840" y="299736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ágio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stragem de tex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21280" y="5477040"/>
            <a:ext cx="661680" cy="4093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7600" y="5526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14960" y="5477040"/>
            <a:ext cx="662040" cy="4093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86960" y="55260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16080" y="543096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35280" y="600552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de Saí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86000" y="3666960"/>
            <a:ext cx="79200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70160" y="37162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x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rot="10800000">
            <a:off x="2295360" y="3730320"/>
            <a:ext cx="276480" cy="29196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4459320"/>
            <a:ext cx="79200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4840" y="450864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x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rot="10800000">
            <a:off x="2299320" y="4522680"/>
            <a:ext cx="276120" cy="292320"/>
          </a:xfrm>
          <a:prstGeom prst="rightArrow">
            <a:avLst>
              <a:gd name="adj1" fmla="val 51963"/>
              <a:gd name="adj2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42100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dores de tex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7431840" y="344844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85040" y="3811680"/>
            <a:ext cx="662040" cy="4093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76120" y="38606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[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80360" y="3017880"/>
            <a:ext cx="662040" cy="4096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476120" y="30672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istradores d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ertex shader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1.1 (D3D 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n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403280" y="2408400"/>
          <a:ext cx="6985080" cy="3684600"/>
        </p:xfrm>
        <a:graphic>
          <a:graphicData uri="http://schemas.openxmlformats.org/drawingml/2006/table">
            <a:tbl>
              <a:tblPr/>
              <a:tblGrid>
                <a:gridCol w="792360"/>
                <a:gridCol w="4060800"/>
                <a:gridCol w="736560"/>
                <a:gridCol w="1395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dor de endereç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dores de ent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dores tempor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dores de con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. de saída (posição do vérti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. de saída (cor primár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. de saída (cor secundár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. de saída (tamanho do pon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. de saída (cor do 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. de saída (coordenadas de textu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 geral das instru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opcode destReg, srcReg1 [ , srcReg2] [ , srcReg3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opcode: é o nome da instrução (mov, add, mu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destReg: registrador 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srcReg1, srcReg2, srcReg3: registradores ori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da registrador armazena quatro elementos, acessados através dos sufix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xyzw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rgb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rstq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v0.x é o primeiro elemento do registrador 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v0.y é o segundo elemento, v0.z o terceir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n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guns 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dição: add r0, c0, 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r0 = c0+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 escalar: dp3 oPos, r0,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oPos.x = r0.x*r1.x + r0.y*r1.y * r0.z*r1.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udança (co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wizzling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: mov oD0.wzyx, v1.xy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oD0.w = v1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oD0.z = v1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oD0.y = v1.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oD0.x = v1.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n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de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ertex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que simula o fluxo de função fixa para uma fonte de luz direcional e uma tex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n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73120" y="2994120"/>
            <a:ext cx="7419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4x4 oPos, v0, c0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Transforma posição do vértice por WVP (em c0 até c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4x4 r1, v1, c4    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Transforma a normal para sistema de ref. do mu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 c4 até c7 contém a inversa transposta da matriz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p3 r1.w, v1, v1   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 Normaliza vetor normal (v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sq r1.w, r1.w       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 r1.w = 1/sqrt(r1.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 r1, r1, r1,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ov r2.xyz, c8    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 Normaliza direção da luz (c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p3 r2.w, c8, c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sq r2.w, r2.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 r2, r2, r2.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açã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n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73120" y="2533680"/>
            <a:ext cx="7419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 Calcula a ilumin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 Cor = ambiente + difusa * max(0, dot(normal, direção da luz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p3 r3.x, r1,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x r3.x, r3.x, c11.x    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 c11.x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d oD0, c9, r3,x, c10 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 oD0 = c9*r3.x + c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; Passa adiante as coordenadas de tex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ov oT0, 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S D3D8 (1.1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nstruções: add, dp3, dp4, dst, expp, lit, logp, mad, mov, max, min, mul, rcp, rsq, sge, slt, s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acros: exp, frc, log, m3x2, m3x3, m3x4, m4x3, m4x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áximo de 128 instruções por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shader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S D3D8 (1.1, 1.2, 1.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nstruções aritméticas: add, sub, dp3, dp4, mul, mov, mad + instruções de amostragem de tex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nstruções aritméticas obrigatoriamente devem vir depois das instruções de amostragem de tex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áximo de 4 instr. de texturas e 8 aritmé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ças entre versões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V_vertex_progra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Computacionalmente igual ao VS D3D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udanças cosméticas (inclusão de macr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nvariância à posição entre o shader e fluxo de função fix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B_vertex_pro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Também computacionalmente igual a NV_vertex_program, mas melhor integrado com o OpenG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Também inclui mais macros: flr (floor), frc (fractional portion), xpd (cross product) e ou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ças entre versões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7065"/>
          <a:stretch/>
        </p:blipFill>
        <p:spPr>
          <a:xfrm>
            <a:off x="1476360" y="1679400"/>
            <a:ext cx="2808360" cy="196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3440" y="1628640"/>
            <a:ext cx="3383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983:</a:t>
            </a:r>
            <a:br>
              <a:rPr sz="24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GI Iris 1000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6666"/>
                </a:solidFill>
                <a:latin typeface="Arial"/>
              </a:rPr>
              <a:t>&lt; 30 mil vértices/seg</a:t>
            </a:r>
            <a:br>
              <a:rPr sz="1800"/>
            </a:br>
            <a:r>
              <a:rPr b="1" i="1" lang="pt-BR" sz="1800" spc="-1" strike="noStrike">
                <a:solidFill>
                  <a:srgbClr val="006666"/>
                </a:solidFill>
                <a:latin typeface="Arial"/>
              </a:rPr>
              <a:t>&lt; 40 milhões pixels/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789360"/>
            <a:ext cx="410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2005:</a:t>
            </a:r>
            <a:br>
              <a:rPr sz="24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VIDIA GeForce 7800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6666"/>
                </a:solidFill>
                <a:latin typeface="Arial"/>
              </a:rPr>
              <a:t>&gt; 860 milhões vértices/seg</a:t>
            </a:r>
            <a:br>
              <a:rPr sz="1800"/>
            </a:br>
            <a:r>
              <a:rPr b="1" i="1" lang="pt-BR" sz="1800" spc="-1" strike="noStrike">
                <a:solidFill>
                  <a:srgbClr val="006666"/>
                </a:solidFill>
                <a:latin typeface="Arial"/>
              </a:rPr>
              <a:t>&gt; 10,32 bilhões pixels/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3840" y="75960"/>
            <a:ext cx="79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ão geral da evolução do desempe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47920" y="4172040"/>
            <a:ext cx="2895480" cy="177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ças entre versões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S D3D9 (2.0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Novas instruções: abs, pow, nrm, sincos e ou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nstruções de fluxo de controle estático: label, call, callnz, ret, rep, endrep, loop, endloop, if, else, end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áximo de 256 instru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S D3D9 (2.x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Fluxo de controle dinâmico e aninhamento de la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S D3D9 (3.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Amostragem de texturas, indexação de regs. de entrada e saída, 32 registradores temporá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512 (ou mais) instru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ças entre versões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16000" y="1484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V_vertex_program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Equivalente ao VS D3D9 2.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S D3D9 (2.0, 2.x, 3.0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Aumento geral no número de registr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Sem limitação na ordem das instruções (ps.1.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Leituras dependentes (ps.1.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ais instruções aritméticas, incluindo instruções de fluxo de cont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S D3D9 (3.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Fluxo de controle dinâ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aior precisão (ponto flutuante de 32 bi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Neblina não é calculada fora do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shader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ças entre versões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B_fragment_progra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Equivalente ao D3D9 PS 2.0, mas pior que D3D9 PS 2.x e 3.0 (não tem instruções de fluxo de contro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V_fragment_progra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ais ou menos equivalente ao D3D9 PS 2.x, poré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66"/>
                </a:solidFill>
                <a:latin typeface="Arial"/>
              </a:rPr>
              <a:t>Maior número máximo de instruções (102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66"/>
                </a:solidFill>
                <a:latin typeface="Arial"/>
              </a:rPr>
              <a:t>Mais flexibilidade na escolha da precisão nú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66"/>
                </a:solidFill>
                <a:latin typeface="Arial"/>
              </a:rPr>
              <a:t>Ainda sem fluxo de contr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V_fragment_program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Fluxo de controle dinâ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guagens de alto ní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das as propostas usam linguagens parecidas com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tanford real-time shad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odelo não centrado em hardware (parecido com o RenderMan). Serve de inspiração para as ou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VIDIA 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Funciona com todas versões de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vertex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e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pixel shaders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do D3D/OpenGL, menos ps1.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icrosoft HL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Descrição de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efeitos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(conjuntos de shad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Depurador integrado com o VS .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Semanticamente e sintaticamente equivalente ao C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guagens de alto ní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LSL (OpenGL Shading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Parecido com Cg,  e portanto com o HLSL tamb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ntegrado com o OpenGL 2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Automaticamente emula em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software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os recursos não disponíveis em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hardware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ookGPU (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ttp://graphics.stanford.edu/projects/brookgpu/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Utilização da GPU em programação de propósito g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Modelo de programação baseado em fluxo (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stream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) de inform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ndependência da AP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usando C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1600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versão 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ertex shad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mostrado anterior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73120" y="2347920"/>
            <a:ext cx="74199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// Declara entrada do </a:t>
            </a:r>
            <a:r>
              <a:rPr b="1" i="1" lang="pt-BR" sz="1600" spc="-1" strike="noStrike">
                <a:solidFill>
                  <a:srgbClr val="006666"/>
                </a:solidFill>
                <a:latin typeface="Arial"/>
              </a:rPr>
              <a:t>vertex sh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oat4 pos : POSI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oat3 normal : NORM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oat2 texcoord : TEXCOORD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// Declara saída do vertex sh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oat4 pos : POSI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oat4 color : COLOR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oat2 texcoord : TEXCOORD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usando C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73120" y="1557360"/>
            <a:ext cx="74199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UT main( IN inpu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niform float4x4 worldViewPro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niform float4x4 invTransWor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niform float3 lightDi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niform float4 diffuseColo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niform float4 ambientColor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UT outpu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// Transforma posição do vértice em espaço homogêneo de rec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utput.pos = mul(worldViewProj, input.po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// Transforma normal do sistema de ref. local para sistema do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oat3 worldNormal = mul((float3x3)invTransWorld, input.norm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// Normaliza normal e direção da lu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orldNormal = normalize(worldNorm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oat3 worldLightDir = normalize(lightDi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usando C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73120" y="1557360"/>
            <a:ext cx="741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// Calcula ilumin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loat diffuse = max(0, dot(worldNormal, worldLightDi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utput.color = ambientColor + diffuse * diffuse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6666"/>
                </a:solidFill>
                <a:latin typeface="Arial"/>
              </a:rPr>
              <a:t>// Passa adiante as coordenadas de tex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utput.texcoord = input.texcoo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turn outpu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16000" y="1700280"/>
            <a:ext cx="75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eração de primitivas na GPU (processador de primitiv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dade de manter informações sobre a cena 3D e assim realizar técnicas de iluminação glob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ção completa da especificação Renderman na G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nda vai levar algum tempo até l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Futuro: 5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r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2195640" y="542880"/>
          <a:ext cx="5549760" cy="555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542880"/>
                    <a:ext cx="554976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1192320" y="1959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39760" y="191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F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840" y="75960"/>
            <a:ext cx="79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do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olução medida pelo desempenho do hardware (hw), qualidade da imagem e recursos implementad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empenh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Vértices processados por segundo (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vertex rate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Pixels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ou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 texels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processados por segundo (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fill rate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alidade da image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Resolução,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 bits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por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pixel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multisampling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, filtragem de texturas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junto de recurs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Transformação, iluminação, texturização, remoção de superfícies escondidas,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tesselation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e programação de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shaders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840" y="75960"/>
            <a:ext cx="79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do hardware gráf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erações de hardware gráfico distinguem-se mais pelo conjunto de recursos implementados do que pelo desempenho ou qualidade de imag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GFX 5200 é mais lenta que uma G4 4200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Qualidade de imagem é um referencial subjetivo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visão em 4 geraçõ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1)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Wireframe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(1983--1987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2) Triângulos sombreados (1987--1992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3) Texturização (1992--2001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4) Programação de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shaders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(2001--hoj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possível prever uma 5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geração (vou falar sobre isso no final da apresentação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1700280"/>
            <a:ext cx="75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értices: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Transformação, recorte e proje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sterização: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Linhas com interpolação de c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rame-buff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Sem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buffer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de profund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GI IRIS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tegrated Raster Imaging Syste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1000, 2000 e 3000 (1983--198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132000" y="3716280"/>
            <a:ext cx="3600720" cy="2398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3840" y="75960"/>
            <a:ext cx="79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eração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ire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1700280"/>
            <a:ext cx="75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értices: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Iluminação com sombreamento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flat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Gouraud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sterização: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Triângulos com interpolação de valores de profundidade e de cores (difusa e especul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rame-buff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Z-buffer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 alpha blending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GI GTX (1987--199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ração: Triângulos Sombre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2879640" cy="230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1700280"/>
            <a:ext cx="75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értices: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Transformação de coordenadas de tex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sterização: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Amostragem de tex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rame-buff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 Buffer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estêncil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, Antialia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GI RealityEngine, de US$1.000.000,00 (1992--200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ração: Texturiz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9280" y="3544920"/>
            <a:ext cx="3095640" cy="2476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03640" y="3535200"/>
            <a:ext cx="3024360" cy="248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0"/>
            <a:ext cx="81010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1484280"/>
            <a:ext cx="75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értices: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Programação do fluxo de vért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sterização: 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Programação do fluxo de frag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rame-buff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 Buffers</a:t>
            </a: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 de ponto flutuante, renderização em texturas, múltiplos alvos de renderização</a:t>
            </a:r>
            <a:r>
              <a:rPr b="1" i="1" lang="pt-BR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cas atuais, com custo a partir de US$100,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759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ração: Programação de Sh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332000" y="348300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1143000"/>
            <a:ext cx="8101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03640" y="348300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60720" y="6021360"/>
            <a:ext cx="183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3DMark03, Futuremark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4160" y="602136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Far Cry Instincts, Ubisoft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00:44:56Z</dcterms:created>
  <dc:creator>Harlen Costa Batagelo</dc:creator>
  <dc:description/>
  <dc:language>en-US</dc:language>
  <cp:lastModifiedBy>Harlen</cp:lastModifiedBy>
  <dcterms:modified xsi:type="dcterms:W3CDTF">2005-06-27T04:28:17Z</dcterms:modified>
  <cp:revision>241</cp:revision>
  <dc:subject/>
  <dc:title>Evolução do hardware gráfico em sistemas GL (SGI e PC)</dc:title>
</cp:coreProperties>
</file>